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93B-1BF3-4B41-9FAC-8B5D356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7E9-E8E1-4EDB-8B2B-71B541A2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4FCE3-834C-4B58-BE38-104EEEDF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9A805-79D7-4A5A-AFB5-AAC6AE4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76742-0ED3-4863-8C23-F73B0306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B16D6-C6AC-44DD-9BEA-A659A8E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B61D6-C564-46E6-821D-7B1C994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DE73A-2A0B-4BEA-BD86-FCC34951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6666A-0C73-4BDF-AA97-7D5AEE4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57FC-83F4-4BF9-9872-88CED41B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C6345-0C86-434E-9167-4B5D5454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7F726-B161-4307-B3A0-EA71F7DB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768-3157-4B69-B1DF-89697FD7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D1E0-A0EA-48FB-84FE-DCFDA01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0D799-D287-49DC-96B9-264F1023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84C8E-9C1F-427F-A4D7-DAE2EEE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1B67-F977-4CCC-AAB2-1CDD1088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38CF5-2D84-4B60-A7DA-C0A2359D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0BB85-B0B2-4226-B3AA-39C4631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ED581-EC77-4EBA-A88A-EB679FB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7C76F-FC58-447E-A697-BC4AE47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5C0F1-27A8-4230-97A9-1F08B005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062C7-908D-4FB2-90C2-1C1A8AA7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CF9-71A7-4589-82F1-C7A8E576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55923-66F8-4DAD-BA2F-BF836911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F21A3-89C4-4D98-B668-B5C5337A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3C0E7-72ED-471F-9B5D-E282CA0D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78EEE-B244-49DD-8263-58C0AA6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4F2E3-CE7B-4F30-AA82-3ED3E38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2A357-30E2-43F0-AAEE-744F12F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751A6-27C0-4752-BE08-93BDFAE5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07F2D-CED6-4700-B244-1389A27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C3D2-D566-4099-A774-B27FE304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44491-4505-4470-8C9B-83F65A2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A8B8-E3A3-440A-8786-D4F2FCBC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7887-F1C9-4621-95E6-92B2CB69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DF99-3768-4276-A5CA-B303EB18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4A828-2EC0-4851-AF46-C8C1D86E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FA13C-0F88-4EEE-BB5A-B6A95EE5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B3F09-7BCF-46B1-ACCA-2305B55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EFAF7-06A9-4784-A0A7-D01C9FC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025C8-4A10-47FD-B9A8-84D368C9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FFAAE-02F3-4E54-85E3-48B2F99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ED1D6-F9D9-4343-8F01-047C05AC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DEE8-5BF9-4DAC-A21F-4BA4002D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B5F9-443C-4567-A4A5-7AB695E2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F505F-F3A2-4C0F-A9FC-1663B417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F10C7-39A6-4C25-9526-50FF910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F604C-722B-403F-8748-976DF16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DA2B1-1AB5-488A-AF3A-9BA0D7FF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D7B4B-CC22-4962-811F-9D65612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54AB64-4859-42D7-B187-4D4A2A64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59DDC5-7B1C-4CE2-8211-FEDBB82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17966E-0A57-43A9-962E-BB51FF6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26C93C-58F5-49D5-BA53-6E36284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672D74-4C0B-4296-BDA9-028AF45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31B2-F482-4FE3-B4B0-EBCFC749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C9021-D3A5-4956-A787-5DABD313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F5D3DF-36E6-4337-8206-CF79987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98EEA6-370F-462B-8D2E-0C4EDDD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7A1100-80E0-4425-AB5A-E704E4F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6A9360-6484-4BAB-9D56-E8F6E0EC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354E98-A274-41BD-9D90-83D99F6E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EEB841-D78F-49EA-9178-1977D841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DEB9C-3D43-4A56-B623-F73CC35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0CD89-68C3-43AA-B626-1A3262D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7F417-46AD-4E58-B0B4-0216B5D3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FC0-6294-4178-B4BB-4C0E662A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C7C4D-0EF0-41D0-B62B-E4499B1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5A461-AFB4-4CFE-A181-30548978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10D15-5D34-46AC-9236-8EFF3CB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F4839-46BD-4233-80A0-B7F0D19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E6686-F16C-4DCD-9037-B3445D4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0D9B3-E325-4F98-8C96-3E403D8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0346E-A362-45F6-B6E1-41FB17AB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213FE-8935-4896-B342-E41C6A88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CE824-EA6C-474B-B1B7-DE22AD33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C78CC-3963-40B1-99B8-5848C9E9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CD4F-C9AB-42D7-BAF8-CB2A92A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E116D-58A1-434E-AA01-8678B20A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A261F-3FEA-49DC-A9D4-06CD3EA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0A9E0-E6A6-41E0-B719-B76CE48D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BA656-DDBB-4D7F-BB4E-D51EF94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08E1D-A102-414F-8D3E-EF096612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03470-0BFD-4E90-B3CF-E8A25B1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D5FE8-E63A-422F-A24F-3CC021AF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D57D3-C9D3-4AC0-BBED-636EF03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FF6CE-857B-4D22-951D-8D98AFE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06C5D-83CE-442C-8660-38F261C7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2CB4-D366-445B-9429-AB20AFA0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A712A-62C8-4024-B464-FA3B4799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3D7-090A-4329-88FC-4CBE7EB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C2D-0E4A-4068-A3ED-E5A50A3A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404E-9DB8-4A03-97FB-C574B1D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A883-2939-4FF5-9FD0-3E8A05C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CBDE-A4CB-4DCE-9188-47769D73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43AA-77A8-473A-AC77-18FB5A0B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EE0-EE66-4D90-B735-8DD74B1E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B93C-9191-4A43-866D-2304E9DD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06AE-D6F9-4DA1-B7C7-162E5B73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6E33-E81D-44F2-B92A-CE75CFB6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EC06-F12C-4D2C-B90F-A67E3751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12C8-646D-48E2-AB34-D3AC11F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4E5-4FE9-49E3-AAA8-1AEB2532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1CA5-8F93-46F5-9934-3F9B792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E839-0C97-4E00-B867-CC702245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FE8E-C612-4884-B811-202F0B0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AAC5-1198-45B6-BBC1-DFB3683C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6D74-AE50-4E72-9D7C-57FD9D41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FE0A-80FA-44D9-846E-F5DBB321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0F28-A9A3-405F-B90A-CFD868A1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AB4A-65C3-4B02-8185-A061E3D2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BC35-8B84-4723-AE25-10614129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113BA-D3EC-440B-BE04-7752BB9E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D05-8963-4688-90FE-FD4749B5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D6C5-786E-4BE3-A166-6411450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CB61-A47A-45ED-A5A0-78EB621F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31CD-96D3-4371-8E25-31BF25F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4042-1EE8-4740-A7AA-FFBF392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8849-8D69-4AC0-86F2-5E6BE28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9C5E-7186-4241-831B-D75FBA64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30F4-9DF2-4FF1-B01C-32E4B0C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A812-5643-41C8-AAD5-D3E59E92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7BC7-730B-441A-8276-2E6D248D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34FD-ED78-4DFE-B10B-C2351210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220-4DEB-41A2-A568-B4AB91E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FABF-8274-4FDF-92EE-CEBB0C73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1439-2D84-4823-863F-2088D299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E120-0E85-4653-A034-8E43406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E53F-4865-449B-BFB0-EB434D2D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251C-C5FA-4719-B2FD-DCE85FEC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83AC-81E2-4F8F-9DCD-E5B55DB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68640-AD6E-4010-8BE7-B74EA8F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BD08-71A2-4EA6-B4F7-69FEADCD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6379-6D0B-4A2C-A60F-E74050BD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92BB-0723-4775-8B61-D47272EA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9F8-7C1C-45D5-B870-AA32606F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EF4A-AA63-4353-BB4B-CB9CBC75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9F64-224F-4F8C-A762-B799E800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8A4A-C928-471A-BBD9-BE57632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40E54-7406-46BC-B114-6F2D9A5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7001D-BF32-422A-B0E7-1A9D1E2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EBB22-196E-4FE1-B01C-F49C47C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0083D-4931-407A-B704-D67912DA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35B4-5A0D-4172-963A-B4D6E16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F81E-0D5B-496C-A8D7-376719A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2C7D-3542-427D-BAF6-A9BF30F9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7AC-8DF4-49EE-8D59-27755ECC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D10C-1BA3-40B8-AE57-D24D492C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3F2E-8D4B-4487-BD59-3BD7EAA7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B3D2-EC2E-4CDB-8B14-08FCF0E4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5ADF-C63C-45B6-983F-E5D39A87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7132-7E85-4DDB-9B03-C53F6768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92C8-DD13-48FC-9F8C-BD6544FF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37B5-9A03-4AA5-A772-3B3A128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920E6-5271-4C27-8710-18760D39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00ED-92D5-4CE3-AEC1-34FDF391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8ECE3-F26C-4DDF-BB18-30C1B66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70F-51AD-4949-8C6A-3F51B9B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D034-3350-45A5-8C89-91B44AE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8030-0535-496C-94A9-6751461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D2D4-9094-4AC9-BEE0-3A96AF6B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1B376-D827-4F1E-AD08-32CA6010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3145-B069-4A48-BD8B-DA2B869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A3C6E-81B9-43A2-866E-16C20A2B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BB14-5347-4B1B-826A-25C184D3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2275D-0EEC-4AC4-B833-32F7627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E9B8C-2522-4F26-B9F4-A152539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0F92-63D7-415B-9F2E-1E292FC6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666-D222-433C-AA28-409A811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4F2D-18F6-4F6E-81F1-123B8FF9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6D79E-0725-4D6D-8D7C-445AA10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1C43-A8A2-4510-AA12-D0AA47D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1DE7E-C3F1-43FA-931D-E2C3791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42113-8FB7-4E67-BCCD-FE428A5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C409C-87EF-4F6D-976E-C080E34A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1B79E-1854-4EA4-AF25-A2AE7DF6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0685-9C29-43CD-8412-9B187DDA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949C0-DA16-4079-8AA3-97D8557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C670B-8DD2-4D6A-8569-D70A10CA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49D9-64C8-470A-B7DA-ECF9F5FDD744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16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CA1-CDBE-437B-8E52-4F11095152C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D07-0E93-42A5-83D5-2B5F12A9124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506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3B3C-A282-474E-8EC1-5BDF41BBDAE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553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8C7-F9B1-466D-B6E3-DAE647FAFC2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602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D42-AFBF-4B65-9CC3-A0DE4921446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4F6-5813-46BB-ABC1-2BEC0F51CAB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A51-1FBF-4F6D-8F1D-CCDE5F0682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BD73-3EB5-4304-8F98-DD46FB75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9037-239D-4621-BB93-A61D38DB8351}" type="slidenum">
              <a:rPr b="0" lang="en-NZ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30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173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176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08F6-3A3F-43A5-85FB-64E5FB5B74CD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26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0EB9-31A1-425F-8A7F-6131C06FA54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C4D-551D-4C50-8C00-E34C4B117CE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22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8B4-FB37-469C-9AE7-E3BF1FCC050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6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6B1C-F51D-420F-8F49-A8BF6371BB5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423720" y="826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the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488880" y="3459240"/>
            <a:ext cx="38181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6"/>
          <p:cNvGrpSpPr/>
          <p:nvPr/>
        </p:nvGrpSpPr>
        <p:grpSpPr>
          <a:xfrm>
            <a:off x="6354720" y="2287440"/>
            <a:ext cx="1706760" cy="2040120"/>
            <a:chOff x="6354720" y="2287440"/>
            <a:chExt cx="1706760" cy="2040120"/>
          </a:xfrm>
        </p:grpSpPr>
        <p:sp>
          <p:nvSpPr>
            <p:cNvPr id="748" name="Rectangle 7"/>
            <p:cNvSpPr/>
            <p:nvPr/>
          </p:nvSpPr>
          <p:spPr>
            <a:xfrm>
              <a:off x="6464160" y="2432160"/>
              <a:ext cx="28800" cy="18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"/>
            <p:cNvSpPr/>
            <p:nvPr/>
          </p:nvSpPr>
          <p:spPr>
            <a:xfrm>
              <a:off x="6404040" y="2287440"/>
              <a:ext cx="149040" cy="147960"/>
            </a:xfrm>
            <a:custGeom>
              <a:avLst/>
              <a:gdLst>
                <a:gd name="textAreaLeft" fmla="*/ 0 w 149040"/>
                <a:gd name="textAreaRight" fmla="*/ 149040 w 14904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9"/>
            <p:cNvSpPr/>
            <p:nvPr/>
          </p:nvSpPr>
          <p:spPr>
            <a:xfrm>
              <a:off x="6464160" y="3135240"/>
              <a:ext cx="28800" cy="50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0"/>
            <p:cNvSpPr/>
            <p:nvPr/>
          </p:nvSpPr>
          <p:spPr>
            <a:xfrm>
              <a:off x="6354720" y="4102200"/>
              <a:ext cx="1562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>
              <a:off x="7913520" y="4041720"/>
              <a:ext cx="147960" cy="1508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198" h="201">
                  <a:moveTo>
                    <a:pt x="0" y="201"/>
                  </a:moveTo>
                  <a:lnTo>
                    <a:pt x="198" y="100"/>
                  </a:lnTo>
                  <a:lnTo>
                    <a:pt x="0" y="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Rectangle 12"/>
          <p:cNvSpPr/>
          <p:nvPr/>
        </p:nvSpPr>
        <p:spPr>
          <a:xfrm>
            <a:off x="6713640" y="4260960"/>
            <a:ext cx="1333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408600" y="347400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are in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2882880" y="2255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6"/>
          <p:cNvSpPr/>
          <p:nvPr/>
        </p:nvSpPr>
        <p:spPr>
          <a:xfrm>
            <a:off x="401040" y="44719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7"/>
          <p:cNvGrpSpPr/>
          <p:nvPr/>
        </p:nvGrpSpPr>
        <p:grpSpPr>
          <a:xfrm>
            <a:off x="412920" y="1027080"/>
            <a:ext cx="2131920" cy="1071000"/>
            <a:chOff x="412920" y="1027080"/>
            <a:chExt cx="2131920" cy="1071000"/>
          </a:xfrm>
        </p:grpSpPr>
        <p:sp>
          <p:nvSpPr>
            <p:cNvPr id="759" name="Rectangle 18"/>
            <p:cNvSpPr/>
            <p:nvPr/>
          </p:nvSpPr>
          <p:spPr>
            <a:xfrm>
              <a:off x="412920" y="1027080"/>
              <a:ext cx="21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9"/>
            <p:cNvSpPr/>
            <p:nvPr/>
          </p:nvSpPr>
          <p:spPr>
            <a:xfrm>
              <a:off x="412920" y="163836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20"/>
          <p:cNvSpPr/>
          <p:nvPr/>
        </p:nvSpPr>
        <p:spPr>
          <a:xfrm>
            <a:off x="852120" y="22510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413280" y="28623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5960160" y="3769920"/>
            <a:ext cx="2129760" cy="1892520"/>
            <a:chOff x="5960160" y="3769920"/>
            <a:chExt cx="2129760" cy="1892520"/>
          </a:xfrm>
        </p:grpSpPr>
        <p:sp>
          <p:nvSpPr>
            <p:cNvPr id="764" name="Rectangle 23"/>
            <p:cNvSpPr/>
            <p:nvPr/>
          </p:nvSpPr>
          <p:spPr>
            <a:xfrm>
              <a:off x="5960160" y="516096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o inters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4"/>
            <p:cNvSpPr/>
            <p:nvPr/>
          </p:nvSpPr>
          <p:spPr>
            <a:xfrm>
              <a:off x="5973840" y="5173560"/>
              <a:ext cx="2116080" cy="48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5"/>
            <p:cNvSpPr/>
            <p:nvPr/>
          </p:nvSpPr>
          <p:spPr>
            <a:xfrm flipV="1">
              <a:off x="7139160" y="3769920"/>
              <a:ext cx="0" cy="139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26"/>
          <p:cNvGrpSpPr/>
          <p:nvPr/>
        </p:nvGrpSpPr>
        <p:grpSpPr>
          <a:xfrm>
            <a:off x="6232680" y="2647800"/>
            <a:ext cx="2611080" cy="943200"/>
            <a:chOff x="6232680" y="2647800"/>
            <a:chExt cx="2611080" cy="943200"/>
          </a:xfrm>
        </p:grpSpPr>
        <p:sp>
          <p:nvSpPr>
            <p:cNvPr id="768" name="Freeform 27"/>
            <p:cNvSpPr/>
            <p:nvPr/>
          </p:nvSpPr>
          <p:spPr>
            <a:xfrm>
              <a:off x="6232680" y="2647800"/>
              <a:ext cx="1463400" cy="943200"/>
            </a:xfrm>
            <a:custGeom>
              <a:avLst/>
              <a:gdLst>
                <a:gd name="textAreaLeft" fmla="*/ 0 w 1463400"/>
                <a:gd name="textAreaRight" fmla="*/ 1463400 w 1463400"/>
                <a:gd name="textAreaTop" fmla="*/ 0 h 943200"/>
                <a:gd name="textAreaBottom" fmla="*/ 943560 h 943200"/>
              </a:gdLst>
              <a:ahLst/>
              <a:rect l="textAreaLeft" t="textAreaTop" r="textAreaRight" b="textAreaBottom"/>
              <a:pathLst>
                <a:path w="1968" h="1267">
                  <a:moveTo>
                    <a:pt x="12" y="0"/>
                  </a:moveTo>
                  <a:lnTo>
                    <a:pt x="0" y="19"/>
                  </a:lnTo>
                  <a:lnTo>
                    <a:pt x="1956" y="1267"/>
                  </a:lnTo>
                  <a:lnTo>
                    <a:pt x="1968" y="124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8"/>
            <p:cNvSpPr/>
            <p:nvPr/>
          </p:nvSpPr>
          <p:spPr>
            <a:xfrm>
              <a:off x="7589880" y="307980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29"/>
          <p:cNvGrpSpPr/>
          <p:nvPr/>
        </p:nvGrpSpPr>
        <p:grpSpPr>
          <a:xfrm>
            <a:off x="5912280" y="3033720"/>
            <a:ext cx="2931480" cy="1686960"/>
            <a:chOff x="5912280" y="3033720"/>
            <a:chExt cx="2931480" cy="1686960"/>
          </a:xfrm>
        </p:grpSpPr>
        <p:sp>
          <p:nvSpPr>
            <p:cNvPr id="771" name="Freeform 30"/>
            <p:cNvSpPr/>
            <p:nvPr/>
          </p:nvSpPr>
          <p:spPr>
            <a:xfrm rot="2610600">
              <a:off x="5785920" y="3600360"/>
              <a:ext cx="1784520" cy="346320"/>
            </a:xfrm>
            <a:custGeom>
              <a:avLst/>
              <a:gdLst>
                <a:gd name="textAreaLeft" fmla="*/ 0 w 1784520"/>
                <a:gd name="textAreaRight" fmla="*/ 1784880 w 178452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403" h="467">
                  <a:moveTo>
                    <a:pt x="0" y="444"/>
                  </a:moveTo>
                  <a:lnTo>
                    <a:pt x="4" y="467"/>
                  </a:lnTo>
                  <a:lnTo>
                    <a:pt x="2403" y="23"/>
                  </a:lnTo>
                  <a:lnTo>
                    <a:pt x="2400" y="0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99"/>
            </a:solidFill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1"/>
            <p:cNvSpPr/>
            <p:nvPr/>
          </p:nvSpPr>
          <p:spPr>
            <a:xfrm>
              <a:off x="7589880" y="426096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32"/>
          <p:cNvSpPr/>
          <p:nvPr/>
        </p:nvSpPr>
        <p:spPr>
          <a:xfrm>
            <a:off x="6616800" y="6381720"/>
            <a:ext cx="24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Times New Roman"/>
                <a:ea typeface="Arial"/>
              </a:rPr>
              <a:t>Sigma Mathematics Work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  <a:ea typeface="Arial"/>
              </a:rPr>
              <a:t>© Pearson Education New Zealan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423720" y="826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the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380880" y="5372280"/>
            <a:ext cx="43484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6"/>
          <p:cNvGrpSpPr/>
          <p:nvPr/>
        </p:nvGrpSpPr>
        <p:grpSpPr>
          <a:xfrm>
            <a:off x="6940440" y="2830680"/>
            <a:ext cx="1706760" cy="2039760"/>
            <a:chOff x="6940440" y="2830680"/>
            <a:chExt cx="1706760" cy="2039760"/>
          </a:xfrm>
        </p:grpSpPr>
        <p:sp>
          <p:nvSpPr>
            <p:cNvPr id="783" name="Rectangle 7"/>
            <p:cNvSpPr/>
            <p:nvPr/>
          </p:nvSpPr>
          <p:spPr>
            <a:xfrm>
              <a:off x="7050240" y="2975040"/>
              <a:ext cx="28440" cy="18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"/>
            <p:cNvSpPr/>
            <p:nvPr/>
          </p:nvSpPr>
          <p:spPr>
            <a:xfrm>
              <a:off x="6989760" y="2830680"/>
              <a:ext cx="149400" cy="1476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9"/>
            <p:cNvSpPr/>
            <p:nvPr/>
          </p:nvSpPr>
          <p:spPr>
            <a:xfrm>
              <a:off x="7050240" y="3678120"/>
              <a:ext cx="28440" cy="50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10"/>
            <p:cNvGrpSpPr/>
            <p:nvPr/>
          </p:nvGrpSpPr>
          <p:grpSpPr>
            <a:xfrm>
              <a:off x="6940440" y="4584600"/>
              <a:ext cx="1706760" cy="150840"/>
              <a:chOff x="6940440" y="4584600"/>
              <a:chExt cx="1706760" cy="150840"/>
            </a:xfrm>
          </p:grpSpPr>
          <p:sp>
            <p:nvSpPr>
              <p:cNvPr id="787" name="Rectangle 11"/>
              <p:cNvSpPr/>
              <p:nvPr/>
            </p:nvSpPr>
            <p:spPr>
              <a:xfrm>
                <a:off x="6940440" y="4645080"/>
                <a:ext cx="15620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2"/>
              <p:cNvSpPr/>
              <p:nvPr/>
            </p:nvSpPr>
            <p:spPr>
              <a:xfrm>
                <a:off x="8499600" y="4584600"/>
                <a:ext cx="147600" cy="15084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50840"/>
                  <a:gd name="textAreaBottom" fmla="*/ 150840 h 150840"/>
                </a:gdLst>
                <a:ahLst/>
                <a:rect l="textAreaLeft" t="textAreaTop" r="textAreaRight" b="textAreaBottom"/>
                <a:pathLst>
                  <a:path w="198" h="201">
                    <a:moveTo>
                      <a:pt x="0" y="201"/>
                    </a:moveTo>
                    <a:lnTo>
                      <a:pt x="198" y="100"/>
                    </a:lnTo>
                    <a:lnTo>
                      <a:pt x="0" y="0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Rectangle 13"/>
          <p:cNvSpPr/>
          <p:nvPr/>
        </p:nvSpPr>
        <p:spPr>
          <a:xfrm>
            <a:off x="7299360" y="4803840"/>
            <a:ext cx="1333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7"/>
          <p:cNvSpPr/>
          <p:nvPr/>
        </p:nvSpPr>
        <p:spPr>
          <a:xfrm>
            <a:off x="1220760" y="8380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8"/>
          <p:cNvSpPr/>
          <p:nvPr/>
        </p:nvSpPr>
        <p:spPr>
          <a:xfrm>
            <a:off x="114300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+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– 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9"/>
          <p:cNvSpPr/>
          <p:nvPr/>
        </p:nvSpPr>
        <p:spPr>
          <a:xfrm>
            <a:off x="4376520" y="762120"/>
            <a:ext cx="4172040" cy="88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arrange (2) into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+ b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=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2"/>
          <p:cNvSpPr/>
          <p:nvPr/>
        </p:nvSpPr>
        <p:spPr>
          <a:xfrm>
            <a:off x="228600" y="3581280"/>
            <a:ext cx="59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two equations cancel out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5"/>
          <p:cNvSpPr/>
          <p:nvPr/>
        </p:nvSpPr>
        <p:spPr>
          <a:xfrm>
            <a:off x="375840" y="541008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are the sam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6"/>
          <p:cNvSpPr/>
          <p:nvPr/>
        </p:nvSpPr>
        <p:spPr>
          <a:xfrm>
            <a:off x="380160" y="60199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7"/>
          <p:cNvGrpSpPr/>
          <p:nvPr/>
        </p:nvGrpSpPr>
        <p:grpSpPr>
          <a:xfrm>
            <a:off x="7353720" y="2455920"/>
            <a:ext cx="1538640" cy="2485800"/>
            <a:chOff x="7353720" y="2455920"/>
            <a:chExt cx="1538640" cy="2485800"/>
          </a:xfrm>
        </p:grpSpPr>
        <p:sp>
          <p:nvSpPr>
            <p:cNvPr id="798" name="Line 28"/>
            <p:cNvSpPr/>
            <p:nvPr/>
          </p:nvSpPr>
          <p:spPr>
            <a:xfrm flipH="1">
              <a:off x="7451280" y="2924280"/>
              <a:ext cx="1079640" cy="201744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9"/>
            <p:cNvSpPr/>
            <p:nvPr/>
          </p:nvSpPr>
          <p:spPr>
            <a:xfrm>
              <a:off x="7353720" y="245592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4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– 2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30"/>
          <p:cNvGrpSpPr/>
          <p:nvPr/>
        </p:nvGrpSpPr>
        <p:grpSpPr>
          <a:xfrm>
            <a:off x="6193440" y="3870000"/>
            <a:ext cx="2702880" cy="1879920"/>
            <a:chOff x="6193440" y="3870000"/>
            <a:chExt cx="2702880" cy="1879920"/>
          </a:xfrm>
        </p:grpSpPr>
        <p:sp>
          <p:nvSpPr>
            <p:cNvPr id="801" name="Rectangle 31"/>
            <p:cNvSpPr/>
            <p:nvPr/>
          </p:nvSpPr>
          <p:spPr>
            <a:xfrm>
              <a:off x="6193440" y="5262480"/>
              <a:ext cx="27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inite inters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2"/>
            <p:cNvSpPr/>
            <p:nvPr/>
          </p:nvSpPr>
          <p:spPr>
            <a:xfrm>
              <a:off x="6216480" y="5261040"/>
              <a:ext cx="2614680" cy="48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3"/>
            <p:cNvSpPr/>
            <p:nvPr/>
          </p:nvSpPr>
          <p:spPr>
            <a:xfrm flipV="1">
              <a:off x="8193240" y="3870000"/>
              <a:ext cx="0" cy="139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34"/>
          <p:cNvGrpSpPr/>
          <p:nvPr/>
        </p:nvGrpSpPr>
        <p:grpSpPr>
          <a:xfrm>
            <a:off x="7040880" y="2905200"/>
            <a:ext cx="1461600" cy="2109600"/>
            <a:chOff x="7040880" y="2905200"/>
            <a:chExt cx="1461600" cy="2109600"/>
          </a:xfrm>
        </p:grpSpPr>
        <p:sp>
          <p:nvSpPr>
            <p:cNvPr id="805" name="Rectangle 35"/>
            <p:cNvSpPr/>
            <p:nvPr/>
          </p:nvSpPr>
          <p:spPr>
            <a:xfrm>
              <a:off x="7040880" y="29052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= 2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36"/>
            <p:cNvSpPr/>
            <p:nvPr/>
          </p:nvSpPr>
          <p:spPr>
            <a:xfrm flipH="1">
              <a:off x="7423200" y="2997360"/>
              <a:ext cx="1079280" cy="201744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37"/>
          <p:cNvSpPr/>
          <p:nvPr/>
        </p:nvSpPr>
        <p:spPr>
          <a:xfrm>
            <a:off x="304920" y="4038480"/>
            <a:ext cx="59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Q. What does this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8"/>
          <p:cNvSpPr/>
          <p:nvPr/>
        </p:nvSpPr>
        <p:spPr>
          <a:xfrm>
            <a:off x="304920" y="40384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hey are the SAME, just re-arran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9"/>
          <p:cNvSpPr/>
          <p:nvPr/>
        </p:nvSpPr>
        <p:spPr>
          <a:xfrm>
            <a:off x="2001240" y="13636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1177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Graphing Simultaneous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The “solutions” to a pair of simultaneous equations are the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and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co-ordinates where the two lines they represent inters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But they don’t always intersect at a point.  There are 3 possibilities (think U.N.I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ique s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The usual – where there is a unique solution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.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is means that the 2 lines represented by the equations intersect at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ique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and its coordinates are given by the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 solu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ere is no solution – lines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tersect because they a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The 2 equations are said 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” with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3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finite number of solu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oth equations are actually for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1295280" y="1295280"/>
            <a:ext cx="6477120" cy="1940040"/>
          </a:xfrm>
          <a:prstGeom prst="rect">
            <a:avLst/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HW: Finish to end of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g. 73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TRA EXAMPLE 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(not covered in c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818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819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820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821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841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Rectangle 67"/>
          <p:cNvSpPr/>
          <p:nvPr/>
        </p:nvSpPr>
        <p:spPr>
          <a:xfrm>
            <a:off x="372960" y="164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870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871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872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873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893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2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917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919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Rectangle 67"/>
          <p:cNvSpPr/>
          <p:nvPr/>
        </p:nvSpPr>
        <p:spPr>
          <a:xfrm>
            <a:off x="372960" y="164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+ 5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= 6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927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928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929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930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950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9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1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974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976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8" name="Group 57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979" name="Line 58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Group 59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981" name="Oval 60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 Box 61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Rectangle 67"/>
          <p:cNvSpPr/>
          <p:nvPr/>
        </p:nvSpPr>
        <p:spPr>
          <a:xfrm>
            <a:off x="373680" y="164628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iscuss by looking at the points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–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= 2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989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990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991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992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1012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1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1036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1038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57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1041" name="Line 58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59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1043" name="Oval 60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 Box 61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5" name="Group 62"/>
          <p:cNvGrpSpPr/>
          <p:nvPr/>
        </p:nvGrpSpPr>
        <p:grpSpPr>
          <a:xfrm>
            <a:off x="7380000" y="1980720"/>
            <a:ext cx="664920" cy="2651400"/>
            <a:chOff x="7380000" y="1980720"/>
            <a:chExt cx="664920" cy="2651400"/>
          </a:xfrm>
        </p:grpSpPr>
        <p:sp>
          <p:nvSpPr>
            <p:cNvPr id="1046" name="Line 63"/>
            <p:cNvSpPr/>
            <p:nvPr/>
          </p:nvSpPr>
          <p:spPr>
            <a:xfrm flipH="1" flipV="1">
              <a:off x="7380000" y="1980720"/>
              <a:ext cx="664920" cy="2651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64"/>
            <p:cNvGrpSpPr/>
            <p:nvPr/>
          </p:nvGrpSpPr>
          <p:grpSpPr>
            <a:xfrm>
              <a:off x="7562880" y="4122720"/>
              <a:ext cx="301680" cy="398880"/>
              <a:chOff x="7562880" y="4122720"/>
              <a:chExt cx="301680" cy="398880"/>
            </a:xfrm>
          </p:grpSpPr>
          <p:sp>
            <p:nvSpPr>
              <p:cNvPr id="1048" name="Oval 65"/>
              <p:cNvSpPr/>
              <p:nvPr/>
            </p:nvSpPr>
            <p:spPr>
              <a:xfrm>
                <a:off x="7562880" y="4172040"/>
                <a:ext cx="30168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66"/>
              <p:cNvSpPr/>
              <p:nvPr/>
            </p:nvSpPr>
            <p:spPr>
              <a:xfrm>
                <a:off x="7562880" y="41227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Rectangle 67"/>
          <p:cNvSpPr/>
          <p:nvPr/>
        </p:nvSpPr>
        <p:spPr>
          <a:xfrm>
            <a:off x="373680" y="164628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iscuss by looking at the points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76320" y="761760"/>
            <a:ext cx="906768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1.)  30% of the students in a class own a car.  Half of the class have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38% of the class neither owns a car, nor has a job, are the 2 events “owns a car” and “has a job” statistically independent in this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is the probability that a student from this class who has a job also owns a c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1056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1057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1058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1059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1079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8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1103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1105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Group 57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1108" name="Line 58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59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1110" name="Oval 60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Text Box 61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Group 62"/>
          <p:cNvGrpSpPr/>
          <p:nvPr/>
        </p:nvGrpSpPr>
        <p:grpSpPr>
          <a:xfrm>
            <a:off x="7380000" y="1980720"/>
            <a:ext cx="664920" cy="2651400"/>
            <a:chOff x="7380000" y="1980720"/>
            <a:chExt cx="664920" cy="2651400"/>
          </a:xfrm>
        </p:grpSpPr>
        <p:sp>
          <p:nvSpPr>
            <p:cNvPr id="1113" name="Line 63"/>
            <p:cNvSpPr/>
            <p:nvPr/>
          </p:nvSpPr>
          <p:spPr>
            <a:xfrm flipH="1" flipV="1">
              <a:off x="7380000" y="1980720"/>
              <a:ext cx="664920" cy="2651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64"/>
            <p:cNvGrpSpPr/>
            <p:nvPr/>
          </p:nvGrpSpPr>
          <p:grpSpPr>
            <a:xfrm>
              <a:off x="7562880" y="4122720"/>
              <a:ext cx="301680" cy="398880"/>
              <a:chOff x="7562880" y="4122720"/>
              <a:chExt cx="301680" cy="398880"/>
            </a:xfrm>
          </p:grpSpPr>
          <p:sp>
            <p:nvSpPr>
              <p:cNvPr id="1115" name="Oval 65"/>
              <p:cNvSpPr/>
              <p:nvPr/>
            </p:nvSpPr>
            <p:spPr>
              <a:xfrm>
                <a:off x="7562880" y="4172040"/>
                <a:ext cx="30168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Text Box 66"/>
              <p:cNvSpPr/>
              <p:nvPr/>
            </p:nvSpPr>
            <p:spPr>
              <a:xfrm>
                <a:off x="7562880" y="41227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Rectangle 67"/>
          <p:cNvSpPr/>
          <p:nvPr/>
        </p:nvSpPr>
        <p:spPr>
          <a:xfrm>
            <a:off x="373680" y="164628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iscuss by looking at the points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+ 5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= 6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–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= 2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9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476280" y="3892680"/>
            <a:ext cx="4545000" cy="8096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1124" name="Group 7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1125" name="Group 8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1126" name="Group 9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1127" name="Line 10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11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12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Line 13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14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15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Line 16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17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Line 18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19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Line 20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21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Line 22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23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24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25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26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27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28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Group 29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1147" name="Line 30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31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32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33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34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35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36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37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38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39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40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41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42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43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44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45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46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47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48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6" name="Line 49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50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Text Box 51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52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53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1171" name="Line 54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Group 55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1173" name="Oval 56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Text Box 57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5" name="Group 58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1176" name="Line 59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60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1178" name="Oval 61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Text Box 62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Group 63"/>
          <p:cNvGrpSpPr/>
          <p:nvPr/>
        </p:nvGrpSpPr>
        <p:grpSpPr>
          <a:xfrm>
            <a:off x="7380000" y="1980720"/>
            <a:ext cx="664920" cy="2651400"/>
            <a:chOff x="7380000" y="1980720"/>
            <a:chExt cx="664920" cy="2651400"/>
          </a:xfrm>
        </p:grpSpPr>
        <p:sp>
          <p:nvSpPr>
            <p:cNvPr id="1181" name="Line 64"/>
            <p:cNvSpPr/>
            <p:nvPr/>
          </p:nvSpPr>
          <p:spPr>
            <a:xfrm flipH="1" flipV="1">
              <a:off x="7380000" y="1980720"/>
              <a:ext cx="664920" cy="2651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65"/>
            <p:cNvGrpSpPr/>
            <p:nvPr/>
          </p:nvGrpSpPr>
          <p:grpSpPr>
            <a:xfrm>
              <a:off x="7562880" y="4122720"/>
              <a:ext cx="301680" cy="398880"/>
              <a:chOff x="7562880" y="4122720"/>
              <a:chExt cx="301680" cy="398880"/>
            </a:xfrm>
          </p:grpSpPr>
          <p:sp>
            <p:nvSpPr>
              <p:cNvPr id="1183" name="Oval 66"/>
              <p:cNvSpPr/>
              <p:nvPr/>
            </p:nvSpPr>
            <p:spPr>
              <a:xfrm>
                <a:off x="7562880" y="4172040"/>
                <a:ext cx="30168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67"/>
              <p:cNvSpPr/>
              <p:nvPr/>
            </p:nvSpPr>
            <p:spPr>
              <a:xfrm>
                <a:off x="7562880" y="41227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5" name="Rectangle 68"/>
          <p:cNvSpPr/>
          <p:nvPr/>
        </p:nvSpPr>
        <p:spPr>
          <a:xfrm>
            <a:off x="404640" y="1692360"/>
            <a:ext cx="48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satisfy the 1st pair of equations, but not equ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69"/>
          <p:cNvSpPr/>
          <p:nvPr/>
        </p:nvSpPr>
        <p:spPr>
          <a:xfrm>
            <a:off x="404640" y="2789280"/>
            <a:ext cx="43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 satisfy the last pair but not equ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70"/>
          <p:cNvSpPr/>
          <p:nvPr/>
        </p:nvSpPr>
        <p:spPr>
          <a:xfrm>
            <a:off x="404640" y="388476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 set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hich satisf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ll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71"/>
          <p:cNvSpPr/>
          <p:nvPr/>
        </p:nvSpPr>
        <p:spPr>
          <a:xfrm>
            <a:off x="404640" y="498492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 the 3 lines represented by these three equations do not intersect at the sam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72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ESSON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roducing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3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hieving in Statistics pg. 75 &amp; 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e up examples on boar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8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py &amp; complete:  The 3 types of probability distribu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coin is flipped 8 times.  The variable: number of tails, would be modelled by which of the above distributions?  Give the parameter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prob. of get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ss than 3 tails in 8 coin-tos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t least 5 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4"/>
          <p:cNvSpPr/>
          <p:nvPr/>
        </p:nvSpPr>
        <p:spPr>
          <a:xfrm>
            <a:off x="380880" y="2133720"/>
            <a:ext cx="8763120" cy="1572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Arial"/>
              </a:rPr>
              <a:t>FOR DISCRET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 The __________ 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. The ________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Parameter: </a:t>
            </a: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80880" y="990720"/>
            <a:ext cx="87631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FOR CONTINUOU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__________ Distribution.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Homework q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g. 73 Q2: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Describe the geometric position of lines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5"/>
              <p:cNvSpPr txBox="1"/>
              <p:nvPr/>
            </p:nvSpPr>
            <p:spPr>
              <a:xfrm>
                <a:off x="1295280" y="1447920"/>
                <a:ext cx="971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ct 7"/>
              <p:cNvSpPr txBox="1"/>
              <p:nvPr/>
            </p:nvSpPr>
            <p:spPr>
              <a:xfrm>
                <a:off x="685800" y="2209680"/>
                <a:ext cx="112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Solve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g. 75 –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+ 2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+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+  3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–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–  2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"/>
          <p:cNvSpPr/>
          <p:nvPr/>
        </p:nvSpPr>
        <p:spPr>
          <a:xfrm>
            <a:off x="2666880" y="380880"/>
            <a:ext cx="6477120" cy="2244600"/>
          </a:xfrm>
          <a:prstGeom prst="rect">
            <a:avLst/>
          </a:prstGeom>
          <a:solidFill>
            <a:srgbClr val="ffffcc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pg. 75 &amp; 76 of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HW: Do NuLake pg. 182 Q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Use your calculator to check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ESS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actice solving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3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ish NuLake p182  Q9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Sigma (old version -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di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. 349 – Ex. 2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8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py &amp; complete:  The 3 types of probability distribu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n average there are 6 earthquakes felt each year in Canterbury.  Which probability distribution would best model the variable: number of earthquakes felt in a year (excluding after-shocks).  Give its parameter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ame 2 assumptions that we’re making to use this distribution to model earthquak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prob. of get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ss than 2 earthquakes in a six-month period in Canterb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ore than 1 in a given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4"/>
          <p:cNvSpPr/>
          <p:nvPr/>
        </p:nvSpPr>
        <p:spPr>
          <a:xfrm>
            <a:off x="380880" y="2133720"/>
            <a:ext cx="8763120" cy="1572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Arial"/>
              </a:rPr>
              <a:t>FOR DISCRET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 The __________ 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. The ________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Parameter: </a:t>
            </a: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5"/>
          <p:cNvSpPr/>
          <p:nvPr/>
        </p:nvSpPr>
        <p:spPr>
          <a:xfrm>
            <a:off x="380880" y="990720"/>
            <a:ext cx="87631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FOR CONTINUOU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__________ Distribution.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LESSON 4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Consistent, inconsistent and non-independent systems of equa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64b3c"/>
                </a:solidFill>
                <a:latin typeface="Century Gothic"/>
              </a:rPr>
              <a:t>Describing the </a:t>
            </a:r>
            <a:r>
              <a:rPr b="1" lang="en-NZ" sz="2400" spc="-1" strike="noStrike">
                <a:solidFill>
                  <a:srgbClr val="564b3c"/>
                </a:solidFill>
                <a:latin typeface="Century Gothic"/>
              </a:rPr>
              <a:t>geometric representation</a:t>
            </a:r>
            <a:r>
              <a:rPr b="0" lang="en-NZ" sz="2400" spc="-1" strike="noStrike">
                <a:solidFill>
                  <a:srgbClr val="564b3c"/>
                </a:solidFill>
                <a:latin typeface="Century Gothic"/>
              </a:rPr>
              <a:t> of 3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×3 sim equations – planes in 3D-space. Handout to fill i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Do Sigma (new): Ex. 10.03 (p195) or Ex. 21.3 on old versi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pic 6: </a:t>
            </a: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OLVE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130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176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2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76320" y="838080"/>
            <a:ext cx="90676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1.) One quarter of the class is left-handed and the rest are right-hande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ne third of the class takes Calculus and 40% of the class takes Geography.  No-one in the class takes b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ich 2 characteristics above ar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bu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not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lementar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efine each of the terms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lementar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5"/>
          <p:cNvSpPr/>
          <p:nvPr/>
        </p:nvSpPr>
        <p:spPr>
          <a:xfrm>
            <a:off x="533520" y="2570040"/>
            <a:ext cx="8065800" cy="19843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1f20"/>
                </a:solidFill>
                <a:latin typeface="Arial-BoldMT"/>
              </a:rPr>
              <a:t>Special case 1 –  equations in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Attempt to solve this system of equations.  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 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y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 + 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=   1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– 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 + 4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=   6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– 1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+ 22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=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7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8"/>
          <p:cNvSpPr/>
          <p:nvPr/>
        </p:nvSpPr>
        <p:spPr>
          <a:xfrm>
            <a:off x="533520" y="579600"/>
            <a:ext cx="8065800" cy="20113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1f20"/>
                </a:solidFill>
                <a:latin typeface="Arial-BoldMT"/>
              </a:rPr>
              <a:t>2005 NCEA “Solve Equations” paper –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Solve the system of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6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7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11    =   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5"/>
          <p:cNvSpPr/>
          <p:nvPr/>
        </p:nvSpPr>
        <p:spPr>
          <a:xfrm>
            <a:off x="498600" y="4707000"/>
            <a:ext cx="8065800" cy="1982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1f20"/>
                </a:solidFill>
                <a:latin typeface="Arial-BoldMT"/>
              </a:rPr>
              <a:t>Special case 2 – consistent but with an infinite number of solutions </a:t>
            </a: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Attempt to solve this system of equations.  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    –  4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   =  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 +  4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–   7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6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9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11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3"/>
          <p:cNvSpPr/>
          <p:nvPr/>
        </p:nvSpPr>
        <p:spPr>
          <a:xfrm>
            <a:off x="412200" y="2443320"/>
            <a:ext cx="56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 we now have 3 dim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7"/>
          <p:cNvSpPr/>
          <p:nvPr/>
        </p:nvSpPr>
        <p:spPr>
          <a:xfrm>
            <a:off x="1295280" y="5791320"/>
            <a:ext cx="239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28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9"/>
          <p:cNvSpPr/>
          <p:nvPr/>
        </p:nvSpPr>
        <p:spPr>
          <a:xfrm flipV="1">
            <a:off x="1066680" y="4495680"/>
            <a:ext cx="16765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32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33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71"/>
          <p:cNvSpPr/>
          <p:nvPr/>
        </p:nvSpPr>
        <p:spPr>
          <a:xfrm>
            <a:off x="266688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2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5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6"/>
          <p:cNvSpPr/>
          <p:nvPr/>
        </p:nvSpPr>
        <p:spPr>
          <a:xfrm>
            <a:off x="477360" y="244800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ot the plane where  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7"/>
          <p:cNvSpPr/>
          <p:nvPr/>
        </p:nvSpPr>
        <p:spPr>
          <a:xfrm>
            <a:off x="1295280" y="5791320"/>
            <a:ext cx="239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8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9"/>
          <p:cNvSpPr/>
          <p:nvPr/>
        </p:nvSpPr>
        <p:spPr>
          <a:xfrm flipV="1">
            <a:off x="1066680" y="4495680"/>
            <a:ext cx="16765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10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11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12"/>
          <p:cNvSpPr/>
          <p:nvPr/>
        </p:nvSpPr>
        <p:spPr>
          <a:xfrm>
            <a:off x="266688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14"/>
          <p:cNvGrpSpPr/>
          <p:nvPr/>
        </p:nvGrpSpPr>
        <p:grpSpPr>
          <a:xfrm>
            <a:off x="1616040" y="3705840"/>
            <a:ext cx="1338840" cy="2573280"/>
            <a:chOff x="1616040" y="3705840"/>
            <a:chExt cx="1338840" cy="2573280"/>
          </a:xfrm>
        </p:grpSpPr>
        <p:sp>
          <p:nvSpPr>
            <p:cNvPr id="1244" name="Freeform 15"/>
            <p:cNvSpPr/>
            <p:nvPr/>
          </p:nvSpPr>
          <p:spPr>
            <a:xfrm rot="21432600">
              <a:off x="1688400" y="3764160"/>
              <a:ext cx="1193760" cy="24555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2455560"/>
                <a:gd name="textAreaBottom" fmla="*/ 2455560 h 245556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6"/>
            <p:cNvSpPr/>
            <p:nvPr/>
          </p:nvSpPr>
          <p:spPr>
            <a:xfrm rot="21432600">
              <a:off x="1676520" y="3733920"/>
              <a:ext cx="1217880" cy="2516760"/>
            </a:xfrm>
            <a:custGeom>
              <a:avLst/>
              <a:gdLst>
                <a:gd name="textAreaLeft" fmla="*/ 0 w 1217880"/>
                <a:gd name="textAreaRight" fmla="*/ 1218240 w 1217880"/>
                <a:gd name="textAreaTop" fmla="*/ 0 h 2516760"/>
                <a:gd name="textAreaBottom" fmla="*/ 2517120 h 251676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Rectangle 18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21"/>
          <p:cNvSpPr/>
          <p:nvPr/>
        </p:nvSpPr>
        <p:spPr>
          <a:xfrm>
            <a:off x="990720" y="4114800"/>
            <a:ext cx="1523880" cy="1371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3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6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7"/>
          <p:cNvSpPr/>
          <p:nvPr/>
        </p:nvSpPr>
        <p:spPr>
          <a:xfrm>
            <a:off x="473040" y="2448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ot the plane where  y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8"/>
          <p:cNvSpPr/>
          <p:nvPr/>
        </p:nvSpPr>
        <p:spPr>
          <a:xfrm>
            <a:off x="1295280" y="5791320"/>
            <a:ext cx="239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9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0"/>
          <p:cNvSpPr/>
          <p:nvPr/>
        </p:nvSpPr>
        <p:spPr>
          <a:xfrm flipV="1">
            <a:off x="1066680" y="4495680"/>
            <a:ext cx="16765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11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12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13"/>
          <p:cNvSpPr/>
          <p:nvPr/>
        </p:nvSpPr>
        <p:spPr>
          <a:xfrm>
            <a:off x="266688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4"/>
          <p:cNvGrpSpPr/>
          <p:nvPr/>
        </p:nvGrpSpPr>
        <p:grpSpPr>
          <a:xfrm>
            <a:off x="1534320" y="3547440"/>
            <a:ext cx="1578240" cy="2809800"/>
            <a:chOff x="1534320" y="3547440"/>
            <a:chExt cx="1578240" cy="2809800"/>
          </a:xfrm>
        </p:grpSpPr>
        <p:sp>
          <p:nvSpPr>
            <p:cNvPr id="1260" name="Freeform 15"/>
            <p:cNvSpPr/>
            <p:nvPr/>
          </p:nvSpPr>
          <p:spPr>
            <a:xfrm rot="21432600">
              <a:off x="1613880" y="3614040"/>
              <a:ext cx="1418040" cy="2675880"/>
            </a:xfrm>
            <a:custGeom>
              <a:avLst/>
              <a:gdLst>
                <a:gd name="textAreaLeft" fmla="*/ 0 w 1418040"/>
                <a:gd name="textAreaRight" fmla="*/ 1418400 w 1418040"/>
                <a:gd name="textAreaTop" fmla="*/ 0 h 2675880"/>
                <a:gd name="textAreaBottom" fmla="*/ 2676240 h 267588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6"/>
            <p:cNvSpPr/>
            <p:nvPr/>
          </p:nvSpPr>
          <p:spPr>
            <a:xfrm rot="21432600">
              <a:off x="1600200" y="3580920"/>
              <a:ext cx="1446480" cy="274248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2742480"/>
                <a:gd name="textAreaBottom" fmla="*/ 2742480 h 274248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Rectangle 19"/>
          <p:cNvSpPr/>
          <p:nvPr/>
        </p:nvSpPr>
        <p:spPr>
          <a:xfrm>
            <a:off x="2514600" y="4114800"/>
            <a:ext cx="704880" cy="1371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2"/>
          <p:cNvSpPr/>
          <p:nvPr/>
        </p:nvSpPr>
        <p:spPr>
          <a:xfrm>
            <a:off x="3200760" y="4724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3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8"/>
          <p:cNvSpPr/>
          <p:nvPr/>
        </p:nvSpPr>
        <p:spPr>
          <a:xfrm>
            <a:off x="1608120" y="5229360"/>
            <a:ext cx="627120" cy="566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9"/>
          <p:cNvSpPr/>
          <p:nvPr/>
        </p:nvSpPr>
        <p:spPr>
          <a:xfrm>
            <a:off x="2235240" y="4976640"/>
            <a:ext cx="704880" cy="819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1949400" y="492588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1949400" y="5000760"/>
            <a:ext cx="504720" cy="103176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12"/>
          <p:cNvSpPr/>
          <p:nvPr/>
        </p:nvSpPr>
        <p:spPr>
          <a:xfrm rot="538200">
            <a:off x="1755720" y="4249800"/>
            <a:ext cx="1689120" cy="74304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13"/>
          <p:cNvGrpSpPr/>
          <p:nvPr/>
        </p:nvGrpSpPr>
        <p:grpSpPr>
          <a:xfrm>
            <a:off x="2451240" y="3911760"/>
            <a:ext cx="513720" cy="1055160"/>
            <a:chOff x="2451240" y="3911760"/>
            <a:chExt cx="513720" cy="1055160"/>
          </a:xfrm>
        </p:grpSpPr>
        <p:sp>
          <p:nvSpPr>
            <p:cNvPr id="1275" name="Freeform 14"/>
            <p:cNvSpPr/>
            <p:nvPr/>
          </p:nvSpPr>
          <p:spPr>
            <a:xfrm>
              <a:off x="2456280" y="3924360"/>
              <a:ext cx="503640" cy="102960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5"/>
            <p:cNvSpPr/>
            <p:nvPr/>
          </p:nvSpPr>
          <p:spPr>
            <a:xfrm>
              <a:off x="2451240" y="3911760"/>
              <a:ext cx="513720" cy="105516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Freeform 16"/>
          <p:cNvSpPr/>
          <p:nvPr/>
        </p:nvSpPr>
        <p:spPr>
          <a:xfrm rot="538200">
            <a:off x="1398240" y="4627440"/>
            <a:ext cx="1689120" cy="74160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17"/>
          <p:cNvSpPr/>
          <p:nvPr/>
        </p:nvSpPr>
        <p:spPr>
          <a:xfrm rot="538200">
            <a:off x="1389240" y="4620960"/>
            <a:ext cx="1706400" cy="752400"/>
          </a:xfrm>
          <a:custGeom>
            <a:avLst/>
            <a:gdLst>
              <a:gd name="textAreaLeft" fmla="*/ 0 w 1706400"/>
              <a:gd name="textAreaRight" fmla="*/ 1706760 w 17064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434" h="1169">
                <a:moveTo>
                  <a:pt x="9" y="1155"/>
                </a:moveTo>
                <a:lnTo>
                  <a:pt x="0" y="1169"/>
                </a:lnTo>
                <a:lnTo>
                  <a:pt x="14" y="1166"/>
                </a:lnTo>
                <a:lnTo>
                  <a:pt x="1913" y="844"/>
                </a:lnTo>
                <a:lnTo>
                  <a:pt x="1916" y="844"/>
                </a:lnTo>
                <a:lnTo>
                  <a:pt x="1917" y="842"/>
                </a:lnTo>
                <a:lnTo>
                  <a:pt x="2426" y="14"/>
                </a:lnTo>
                <a:lnTo>
                  <a:pt x="2434" y="0"/>
                </a:lnTo>
                <a:lnTo>
                  <a:pt x="2420" y="3"/>
                </a:lnTo>
                <a:lnTo>
                  <a:pt x="522" y="325"/>
                </a:lnTo>
                <a:lnTo>
                  <a:pt x="519" y="325"/>
                </a:lnTo>
                <a:lnTo>
                  <a:pt x="519" y="327"/>
                </a:lnTo>
                <a:lnTo>
                  <a:pt x="9" y="1155"/>
                </a:lnTo>
                <a:close/>
                <a:moveTo>
                  <a:pt x="529" y="336"/>
                </a:moveTo>
                <a:lnTo>
                  <a:pt x="523" y="332"/>
                </a:lnTo>
                <a:lnTo>
                  <a:pt x="525" y="338"/>
                </a:lnTo>
                <a:lnTo>
                  <a:pt x="2422" y="16"/>
                </a:lnTo>
                <a:lnTo>
                  <a:pt x="2421" y="9"/>
                </a:lnTo>
                <a:lnTo>
                  <a:pt x="2416" y="5"/>
                </a:lnTo>
                <a:lnTo>
                  <a:pt x="1907" y="833"/>
                </a:lnTo>
                <a:lnTo>
                  <a:pt x="1911" y="837"/>
                </a:lnTo>
                <a:lnTo>
                  <a:pt x="1910" y="831"/>
                </a:lnTo>
                <a:lnTo>
                  <a:pt x="12" y="1153"/>
                </a:lnTo>
                <a:lnTo>
                  <a:pt x="13" y="1160"/>
                </a:lnTo>
                <a:lnTo>
                  <a:pt x="19" y="1164"/>
                </a:lnTo>
                <a:lnTo>
                  <a:pt x="529" y="3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8"/>
          <p:cNvSpPr/>
          <p:nvPr/>
        </p:nvSpPr>
        <p:spPr>
          <a:xfrm>
            <a:off x="2235240" y="4452840"/>
            <a:ext cx="70488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9"/>
          <p:cNvSpPr/>
          <p:nvPr/>
        </p:nvSpPr>
        <p:spPr>
          <a:xfrm>
            <a:off x="1608120" y="4452840"/>
            <a:ext cx="62712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0"/>
          <p:cNvSpPr/>
          <p:nvPr/>
        </p:nvSpPr>
        <p:spPr>
          <a:xfrm>
            <a:off x="2070000" y="573408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21"/>
          <p:cNvSpPr/>
          <p:nvPr/>
        </p:nvSpPr>
        <p:spPr>
          <a:xfrm flipV="1">
            <a:off x="1652760" y="3820680"/>
            <a:ext cx="0" cy="13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22"/>
          <p:cNvSpPr/>
          <p:nvPr/>
        </p:nvSpPr>
        <p:spPr>
          <a:xfrm flipV="1">
            <a:off x="1531800" y="5506920"/>
            <a:ext cx="32076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3"/>
          <p:cNvSpPr/>
          <p:nvPr/>
        </p:nvSpPr>
        <p:spPr>
          <a:xfrm>
            <a:off x="1481040" y="5734080"/>
            <a:ext cx="47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24"/>
          <p:cNvSpPr/>
          <p:nvPr/>
        </p:nvSpPr>
        <p:spPr>
          <a:xfrm flipV="1">
            <a:off x="1652760" y="5240160"/>
            <a:ext cx="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5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26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27"/>
          <p:cNvSpPr/>
          <p:nvPr/>
        </p:nvSpPr>
        <p:spPr>
          <a:xfrm>
            <a:off x="1968480" y="444492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8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29"/>
          <p:cNvSpPr/>
          <p:nvPr/>
        </p:nvSpPr>
        <p:spPr>
          <a:xfrm>
            <a:off x="2907000" y="52941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30"/>
          <p:cNvSpPr/>
          <p:nvPr/>
        </p:nvSpPr>
        <p:spPr>
          <a:xfrm>
            <a:off x="3356280" y="4565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1"/>
          <p:cNvSpPr/>
          <p:nvPr/>
        </p:nvSpPr>
        <p:spPr>
          <a:xfrm>
            <a:off x="525960" y="25146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ot the plane where  z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6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9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0"/>
          <p:cNvSpPr/>
          <p:nvPr/>
        </p:nvSpPr>
        <p:spPr>
          <a:xfrm>
            <a:off x="406800" y="2824200"/>
            <a:ext cx="43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hree planes intersec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1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3"/>
          <p:cNvSpPr/>
          <p:nvPr/>
        </p:nvSpPr>
        <p:spPr>
          <a:xfrm>
            <a:off x="411480" y="244332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5"/>
          <p:cNvSpPr/>
          <p:nvPr/>
        </p:nvSpPr>
        <p:spPr>
          <a:xfrm>
            <a:off x="1608120" y="5229360"/>
            <a:ext cx="627120" cy="566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6"/>
          <p:cNvSpPr/>
          <p:nvPr/>
        </p:nvSpPr>
        <p:spPr>
          <a:xfrm>
            <a:off x="2235240" y="4976640"/>
            <a:ext cx="704880" cy="819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7"/>
          <p:cNvSpPr/>
          <p:nvPr/>
        </p:nvSpPr>
        <p:spPr>
          <a:xfrm>
            <a:off x="1949400" y="492588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18"/>
          <p:cNvSpPr/>
          <p:nvPr/>
        </p:nvSpPr>
        <p:spPr>
          <a:xfrm>
            <a:off x="1949400" y="5000760"/>
            <a:ext cx="504720" cy="103176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9"/>
          <p:cNvSpPr/>
          <p:nvPr/>
        </p:nvSpPr>
        <p:spPr>
          <a:xfrm rot="538200">
            <a:off x="1755720" y="4249800"/>
            <a:ext cx="1689120" cy="74304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Group 20"/>
          <p:cNvGrpSpPr/>
          <p:nvPr/>
        </p:nvGrpSpPr>
        <p:grpSpPr>
          <a:xfrm>
            <a:off x="2451240" y="3911760"/>
            <a:ext cx="513720" cy="1055160"/>
            <a:chOff x="2451240" y="3911760"/>
            <a:chExt cx="513720" cy="1055160"/>
          </a:xfrm>
        </p:grpSpPr>
        <p:sp>
          <p:nvSpPr>
            <p:cNvPr id="1305" name="Freeform 21"/>
            <p:cNvSpPr/>
            <p:nvPr/>
          </p:nvSpPr>
          <p:spPr>
            <a:xfrm>
              <a:off x="2456280" y="3924360"/>
              <a:ext cx="503640" cy="102960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2"/>
            <p:cNvSpPr/>
            <p:nvPr/>
          </p:nvSpPr>
          <p:spPr>
            <a:xfrm>
              <a:off x="2451240" y="3911760"/>
              <a:ext cx="513720" cy="105516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Freeform 23"/>
          <p:cNvSpPr/>
          <p:nvPr/>
        </p:nvSpPr>
        <p:spPr>
          <a:xfrm rot="538200">
            <a:off x="1398240" y="4627440"/>
            <a:ext cx="1689120" cy="74160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24"/>
          <p:cNvSpPr/>
          <p:nvPr/>
        </p:nvSpPr>
        <p:spPr>
          <a:xfrm rot="538200">
            <a:off x="1389240" y="4620960"/>
            <a:ext cx="1706400" cy="752400"/>
          </a:xfrm>
          <a:custGeom>
            <a:avLst/>
            <a:gdLst>
              <a:gd name="textAreaLeft" fmla="*/ 0 w 1706400"/>
              <a:gd name="textAreaRight" fmla="*/ 1706760 w 17064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434" h="1169">
                <a:moveTo>
                  <a:pt x="9" y="1155"/>
                </a:moveTo>
                <a:lnTo>
                  <a:pt x="0" y="1169"/>
                </a:lnTo>
                <a:lnTo>
                  <a:pt x="14" y="1166"/>
                </a:lnTo>
                <a:lnTo>
                  <a:pt x="1913" y="844"/>
                </a:lnTo>
                <a:lnTo>
                  <a:pt x="1916" y="844"/>
                </a:lnTo>
                <a:lnTo>
                  <a:pt x="1917" y="842"/>
                </a:lnTo>
                <a:lnTo>
                  <a:pt x="2426" y="14"/>
                </a:lnTo>
                <a:lnTo>
                  <a:pt x="2434" y="0"/>
                </a:lnTo>
                <a:lnTo>
                  <a:pt x="2420" y="3"/>
                </a:lnTo>
                <a:lnTo>
                  <a:pt x="522" y="325"/>
                </a:lnTo>
                <a:lnTo>
                  <a:pt x="519" y="325"/>
                </a:lnTo>
                <a:lnTo>
                  <a:pt x="519" y="327"/>
                </a:lnTo>
                <a:lnTo>
                  <a:pt x="9" y="1155"/>
                </a:lnTo>
                <a:close/>
                <a:moveTo>
                  <a:pt x="529" y="336"/>
                </a:moveTo>
                <a:lnTo>
                  <a:pt x="523" y="332"/>
                </a:lnTo>
                <a:lnTo>
                  <a:pt x="525" y="338"/>
                </a:lnTo>
                <a:lnTo>
                  <a:pt x="2422" y="16"/>
                </a:lnTo>
                <a:lnTo>
                  <a:pt x="2421" y="9"/>
                </a:lnTo>
                <a:lnTo>
                  <a:pt x="2416" y="5"/>
                </a:lnTo>
                <a:lnTo>
                  <a:pt x="1907" y="833"/>
                </a:lnTo>
                <a:lnTo>
                  <a:pt x="1911" y="837"/>
                </a:lnTo>
                <a:lnTo>
                  <a:pt x="1910" y="831"/>
                </a:lnTo>
                <a:lnTo>
                  <a:pt x="12" y="1153"/>
                </a:lnTo>
                <a:lnTo>
                  <a:pt x="13" y="1160"/>
                </a:lnTo>
                <a:lnTo>
                  <a:pt x="19" y="1164"/>
                </a:lnTo>
                <a:lnTo>
                  <a:pt x="529" y="3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25"/>
          <p:cNvSpPr/>
          <p:nvPr/>
        </p:nvSpPr>
        <p:spPr>
          <a:xfrm>
            <a:off x="2235240" y="4452840"/>
            <a:ext cx="70488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26"/>
          <p:cNvSpPr/>
          <p:nvPr/>
        </p:nvSpPr>
        <p:spPr>
          <a:xfrm>
            <a:off x="1608120" y="4452840"/>
            <a:ext cx="62712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27"/>
          <p:cNvSpPr/>
          <p:nvPr/>
        </p:nvSpPr>
        <p:spPr>
          <a:xfrm>
            <a:off x="2070000" y="573408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8"/>
          <p:cNvSpPr/>
          <p:nvPr/>
        </p:nvSpPr>
        <p:spPr>
          <a:xfrm flipV="1">
            <a:off x="1652760" y="3820680"/>
            <a:ext cx="0" cy="13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29"/>
          <p:cNvSpPr/>
          <p:nvPr/>
        </p:nvSpPr>
        <p:spPr>
          <a:xfrm flipV="1">
            <a:off x="1531800" y="5506920"/>
            <a:ext cx="32076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30"/>
          <p:cNvSpPr/>
          <p:nvPr/>
        </p:nvSpPr>
        <p:spPr>
          <a:xfrm>
            <a:off x="1481040" y="5734080"/>
            <a:ext cx="47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31"/>
          <p:cNvSpPr/>
          <p:nvPr/>
        </p:nvSpPr>
        <p:spPr>
          <a:xfrm flipV="1">
            <a:off x="1652760" y="5240160"/>
            <a:ext cx="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34"/>
          <p:cNvSpPr/>
          <p:nvPr/>
        </p:nvSpPr>
        <p:spPr>
          <a:xfrm>
            <a:off x="1968480" y="444492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35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36"/>
          <p:cNvSpPr/>
          <p:nvPr/>
        </p:nvSpPr>
        <p:spPr>
          <a:xfrm>
            <a:off x="2907000" y="52941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37"/>
          <p:cNvSpPr/>
          <p:nvPr/>
        </p:nvSpPr>
        <p:spPr>
          <a:xfrm>
            <a:off x="3356280" y="4565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4046400" y="2367000"/>
            <a:ext cx="5097600" cy="4506840"/>
            <a:chOff x="4046400" y="2367000"/>
            <a:chExt cx="5097600" cy="4506840"/>
          </a:xfrm>
        </p:grpSpPr>
        <p:sp>
          <p:nvSpPr>
            <p:cNvPr id="1323" name="Rectangle 3"/>
            <p:cNvSpPr/>
            <p:nvPr/>
          </p:nvSpPr>
          <p:spPr>
            <a:xfrm>
              <a:off x="4046400" y="2367000"/>
              <a:ext cx="5097600" cy="4052880"/>
            </a:xfrm>
            <a:prstGeom prst="rect">
              <a:avLst/>
            </a:prstGeom>
            <a:solidFill>
              <a:srgbClr val="93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4"/>
            <p:cNvSpPr/>
            <p:nvPr/>
          </p:nvSpPr>
          <p:spPr>
            <a:xfrm>
              <a:off x="4057560" y="6343560"/>
              <a:ext cx="2732040" cy="530280"/>
            </a:xfrm>
            <a:prstGeom prst="rect">
              <a:avLst/>
            </a:prstGeom>
            <a:solidFill>
              <a:srgbClr val="93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Rectangle 5"/>
          <p:cNvSpPr/>
          <p:nvPr/>
        </p:nvSpPr>
        <p:spPr>
          <a:xfrm>
            <a:off x="-12600" y="2363760"/>
            <a:ext cx="470844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8"/>
          <p:cNvSpPr/>
          <p:nvPr/>
        </p:nvSpPr>
        <p:spPr>
          <a:xfrm>
            <a:off x="3746520" y="1728720"/>
            <a:ext cx="24256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9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406800" y="2824200"/>
            <a:ext cx="43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hree planes intersec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1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2"/>
          <p:cNvSpPr/>
          <p:nvPr/>
        </p:nvSpPr>
        <p:spPr>
          <a:xfrm>
            <a:off x="376560" y="182880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clearly hav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unique 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"/>
          <p:cNvSpPr/>
          <p:nvPr/>
        </p:nvSpPr>
        <p:spPr>
          <a:xfrm>
            <a:off x="411480" y="244332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14"/>
          <p:cNvGrpSpPr/>
          <p:nvPr/>
        </p:nvGrpSpPr>
        <p:grpSpPr>
          <a:xfrm>
            <a:off x="1341360" y="3751200"/>
            <a:ext cx="2693880" cy="2393280"/>
            <a:chOff x="1341360" y="3751200"/>
            <a:chExt cx="2693880" cy="2393280"/>
          </a:xfrm>
        </p:grpSpPr>
        <p:sp>
          <p:nvSpPr>
            <p:cNvPr id="1335" name="Rectangle 15"/>
            <p:cNvSpPr/>
            <p:nvPr/>
          </p:nvSpPr>
          <p:spPr>
            <a:xfrm>
              <a:off x="1607400" y="5229720"/>
              <a:ext cx="627120" cy="56664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6"/>
            <p:cNvSpPr/>
            <p:nvPr/>
          </p:nvSpPr>
          <p:spPr>
            <a:xfrm>
              <a:off x="2234520" y="4976280"/>
              <a:ext cx="705600" cy="8200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7"/>
            <p:cNvSpPr/>
            <p:nvPr/>
          </p:nvSpPr>
          <p:spPr>
            <a:xfrm>
              <a:off x="1949400" y="4925880"/>
              <a:ext cx="504360" cy="10299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8"/>
            <p:cNvSpPr/>
            <p:nvPr/>
          </p:nvSpPr>
          <p:spPr>
            <a:xfrm>
              <a:off x="1949400" y="5000400"/>
              <a:ext cx="504360" cy="10314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9"/>
            <p:cNvSpPr/>
            <p:nvPr/>
          </p:nvSpPr>
          <p:spPr>
            <a:xfrm rot="538200">
              <a:off x="1755360" y="4250520"/>
              <a:ext cx="1689480" cy="742320"/>
            </a:xfrm>
            <a:custGeom>
              <a:avLst/>
              <a:gdLst>
                <a:gd name="textAreaLeft" fmla="*/ 0 w 1689480"/>
                <a:gd name="textAreaRight" fmla="*/ 1689840 w 168948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2408" h="1151">
                  <a:moveTo>
                    <a:pt x="510" y="323"/>
                  </a:moveTo>
                  <a:lnTo>
                    <a:pt x="0" y="1151"/>
                  </a:lnTo>
                  <a:lnTo>
                    <a:pt x="1898" y="828"/>
                  </a:lnTo>
                  <a:lnTo>
                    <a:pt x="2408" y="0"/>
                  </a:lnTo>
                  <a:lnTo>
                    <a:pt x="510" y="32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0" name="Group 20"/>
            <p:cNvGrpSpPr/>
            <p:nvPr/>
          </p:nvGrpSpPr>
          <p:grpSpPr>
            <a:xfrm>
              <a:off x="2451240" y="3912120"/>
              <a:ext cx="514080" cy="1055160"/>
              <a:chOff x="2451240" y="3912120"/>
              <a:chExt cx="514080" cy="1055160"/>
            </a:xfrm>
          </p:grpSpPr>
          <p:sp>
            <p:nvSpPr>
              <p:cNvPr id="1341" name="Freeform 21"/>
              <p:cNvSpPr/>
              <p:nvPr/>
            </p:nvSpPr>
            <p:spPr>
              <a:xfrm>
                <a:off x="2456280" y="3924720"/>
                <a:ext cx="504000" cy="1029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1029600"/>
                  <a:gd name="textAreaBottom" fmla="*/ 1029960 h 1029600"/>
                </a:gdLst>
                <a:ahLst/>
                <a:rect l="textAreaLeft" t="textAreaTop" r="textAreaRight" b="textAreaBottom"/>
                <a:pathLst>
                  <a:path w="604" h="1696">
                    <a:moveTo>
                      <a:pt x="28" y="851"/>
                    </a:moveTo>
                    <a:lnTo>
                      <a:pt x="604" y="0"/>
                    </a:lnTo>
                    <a:lnTo>
                      <a:pt x="576" y="846"/>
                    </a:lnTo>
                    <a:lnTo>
                      <a:pt x="0" y="1696"/>
                    </a:lnTo>
                    <a:lnTo>
                      <a:pt x="28" y="85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22"/>
              <p:cNvSpPr/>
              <p:nvPr/>
            </p:nvSpPr>
            <p:spPr>
              <a:xfrm>
                <a:off x="2451240" y="3912120"/>
                <a:ext cx="514080" cy="105516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055160"/>
                  <a:gd name="textAreaBottom" fmla="*/ 1055520 h 1055160"/>
                </a:gdLst>
                <a:ahLst/>
                <a:rect l="textAreaLeft" t="textAreaTop" r="textAreaRight" b="textAreaBottom"/>
                <a:pathLst>
                  <a:path w="620" h="1740">
                    <a:moveTo>
                      <a:pt x="616" y="28"/>
                    </a:moveTo>
                    <a:lnTo>
                      <a:pt x="612" y="22"/>
                    </a:lnTo>
                    <a:lnTo>
                      <a:pt x="605" y="22"/>
                    </a:lnTo>
                    <a:lnTo>
                      <a:pt x="577" y="868"/>
                    </a:lnTo>
                    <a:lnTo>
                      <a:pt x="584" y="868"/>
                    </a:lnTo>
                    <a:lnTo>
                      <a:pt x="579" y="864"/>
                    </a:lnTo>
                    <a:lnTo>
                      <a:pt x="3" y="1713"/>
                    </a:lnTo>
                    <a:lnTo>
                      <a:pt x="8" y="1718"/>
                    </a:lnTo>
                    <a:lnTo>
                      <a:pt x="15" y="1718"/>
                    </a:lnTo>
                    <a:lnTo>
                      <a:pt x="42" y="873"/>
                    </a:lnTo>
                    <a:lnTo>
                      <a:pt x="36" y="873"/>
                    </a:lnTo>
                    <a:lnTo>
                      <a:pt x="40" y="878"/>
                    </a:lnTo>
                    <a:lnTo>
                      <a:pt x="616" y="28"/>
                    </a:lnTo>
                    <a:close/>
                    <a:moveTo>
                      <a:pt x="31" y="868"/>
                    </a:moveTo>
                    <a:lnTo>
                      <a:pt x="29" y="871"/>
                    </a:lnTo>
                    <a:lnTo>
                      <a:pt x="29" y="873"/>
                    </a:lnTo>
                    <a:lnTo>
                      <a:pt x="1" y="1718"/>
                    </a:lnTo>
                    <a:lnTo>
                      <a:pt x="0" y="1740"/>
                    </a:lnTo>
                    <a:lnTo>
                      <a:pt x="12" y="1723"/>
                    </a:lnTo>
                    <a:lnTo>
                      <a:pt x="588" y="874"/>
                    </a:lnTo>
                    <a:lnTo>
                      <a:pt x="591" y="871"/>
                    </a:lnTo>
                    <a:lnTo>
                      <a:pt x="591" y="868"/>
                    </a:lnTo>
                    <a:lnTo>
                      <a:pt x="618" y="22"/>
                    </a:lnTo>
                    <a:lnTo>
                      <a:pt x="620" y="0"/>
                    </a:lnTo>
                    <a:lnTo>
                      <a:pt x="607" y="18"/>
                    </a:lnTo>
                    <a:lnTo>
                      <a:pt x="31" y="8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Freeform 23"/>
            <p:cNvSpPr/>
            <p:nvPr/>
          </p:nvSpPr>
          <p:spPr>
            <a:xfrm rot="538200">
              <a:off x="1397880" y="4626720"/>
              <a:ext cx="1689120" cy="741240"/>
            </a:xfrm>
            <a:custGeom>
              <a:avLst/>
              <a:gdLst>
                <a:gd name="textAreaLeft" fmla="*/ 0 w 1689120"/>
                <a:gd name="textAreaRight" fmla="*/ 1689480 w 168912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408" h="1151">
                  <a:moveTo>
                    <a:pt x="510" y="323"/>
                  </a:moveTo>
                  <a:lnTo>
                    <a:pt x="0" y="1151"/>
                  </a:lnTo>
                  <a:lnTo>
                    <a:pt x="1898" y="828"/>
                  </a:lnTo>
                  <a:lnTo>
                    <a:pt x="2408" y="0"/>
                  </a:lnTo>
                  <a:lnTo>
                    <a:pt x="510" y="32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"/>
            <p:cNvSpPr/>
            <p:nvPr/>
          </p:nvSpPr>
          <p:spPr>
            <a:xfrm rot="538200">
              <a:off x="1389600" y="4621320"/>
              <a:ext cx="1705680" cy="752400"/>
            </a:xfrm>
            <a:custGeom>
              <a:avLst/>
              <a:gdLst>
                <a:gd name="textAreaLeft" fmla="*/ 0 w 1705680"/>
                <a:gd name="textAreaRight" fmla="*/ 1706040 w 170568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2434" h="1169">
                  <a:moveTo>
                    <a:pt x="9" y="1155"/>
                  </a:moveTo>
                  <a:lnTo>
                    <a:pt x="0" y="1169"/>
                  </a:lnTo>
                  <a:lnTo>
                    <a:pt x="14" y="1166"/>
                  </a:lnTo>
                  <a:lnTo>
                    <a:pt x="1913" y="844"/>
                  </a:lnTo>
                  <a:lnTo>
                    <a:pt x="1916" y="844"/>
                  </a:lnTo>
                  <a:lnTo>
                    <a:pt x="1917" y="842"/>
                  </a:lnTo>
                  <a:lnTo>
                    <a:pt x="2426" y="14"/>
                  </a:lnTo>
                  <a:lnTo>
                    <a:pt x="2434" y="0"/>
                  </a:lnTo>
                  <a:lnTo>
                    <a:pt x="2420" y="3"/>
                  </a:lnTo>
                  <a:lnTo>
                    <a:pt x="522" y="325"/>
                  </a:lnTo>
                  <a:lnTo>
                    <a:pt x="519" y="325"/>
                  </a:lnTo>
                  <a:lnTo>
                    <a:pt x="519" y="327"/>
                  </a:lnTo>
                  <a:lnTo>
                    <a:pt x="9" y="1155"/>
                  </a:lnTo>
                  <a:close/>
                  <a:moveTo>
                    <a:pt x="529" y="336"/>
                  </a:moveTo>
                  <a:lnTo>
                    <a:pt x="523" y="332"/>
                  </a:lnTo>
                  <a:lnTo>
                    <a:pt x="525" y="338"/>
                  </a:lnTo>
                  <a:lnTo>
                    <a:pt x="2422" y="16"/>
                  </a:lnTo>
                  <a:lnTo>
                    <a:pt x="2421" y="9"/>
                  </a:lnTo>
                  <a:lnTo>
                    <a:pt x="2416" y="5"/>
                  </a:lnTo>
                  <a:lnTo>
                    <a:pt x="1907" y="833"/>
                  </a:lnTo>
                  <a:lnTo>
                    <a:pt x="1911" y="837"/>
                  </a:lnTo>
                  <a:lnTo>
                    <a:pt x="1910" y="831"/>
                  </a:lnTo>
                  <a:lnTo>
                    <a:pt x="12" y="1153"/>
                  </a:lnTo>
                  <a:lnTo>
                    <a:pt x="13" y="1160"/>
                  </a:lnTo>
                  <a:lnTo>
                    <a:pt x="19" y="1164"/>
                  </a:lnTo>
                  <a:lnTo>
                    <a:pt x="529" y="3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25"/>
            <p:cNvSpPr/>
            <p:nvPr/>
          </p:nvSpPr>
          <p:spPr>
            <a:xfrm>
              <a:off x="2234520" y="4453200"/>
              <a:ext cx="705600" cy="52812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26"/>
            <p:cNvSpPr/>
            <p:nvPr/>
          </p:nvSpPr>
          <p:spPr>
            <a:xfrm>
              <a:off x="1607400" y="4453200"/>
              <a:ext cx="627120" cy="52812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7"/>
            <p:cNvSpPr/>
            <p:nvPr/>
          </p:nvSpPr>
          <p:spPr>
            <a:xfrm>
              <a:off x="2070000" y="5734080"/>
              <a:ext cx="171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8"/>
            <p:cNvSpPr/>
            <p:nvPr/>
          </p:nvSpPr>
          <p:spPr>
            <a:xfrm flipV="1">
              <a:off x="1651680" y="3820320"/>
              <a:ext cx="0" cy="13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29"/>
            <p:cNvSpPr/>
            <p:nvPr/>
          </p:nvSpPr>
          <p:spPr>
            <a:xfrm flipV="1">
              <a:off x="1531440" y="5507280"/>
              <a:ext cx="320400" cy="34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30"/>
            <p:cNvSpPr/>
            <p:nvPr/>
          </p:nvSpPr>
          <p:spPr>
            <a:xfrm>
              <a:off x="1480680" y="5734080"/>
              <a:ext cx="47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31"/>
            <p:cNvSpPr/>
            <p:nvPr/>
          </p:nvSpPr>
          <p:spPr>
            <a:xfrm flipV="1">
              <a:off x="1651680" y="5239800"/>
              <a:ext cx="0" cy="69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32"/>
            <p:cNvSpPr/>
            <p:nvPr/>
          </p:nvSpPr>
          <p:spPr>
            <a:xfrm>
              <a:off x="3558960" y="5745600"/>
              <a:ext cx="32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33"/>
            <p:cNvSpPr/>
            <p:nvPr/>
          </p:nvSpPr>
          <p:spPr>
            <a:xfrm>
              <a:off x="1366920" y="37512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34"/>
            <p:cNvSpPr/>
            <p:nvPr/>
          </p:nvSpPr>
          <p:spPr>
            <a:xfrm>
              <a:off x="1968480" y="4444200"/>
              <a:ext cx="504360" cy="10303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35"/>
            <p:cNvSpPr/>
            <p:nvPr/>
          </p:nvSpPr>
          <p:spPr>
            <a:xfrm>
              <a:off x="2946960" y="38451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fb6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000" spc="-1" strike="noStrike">
                  <a:solidFill>
                    <a:srgbClr val="9fb6ff"/>
                  </a:solidFill>
                  <a:latin typeface="Times New Roman"/>
                  <a:ea typeface="Times New Roman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36"/>
            <p:cNvSpPr/>
            <p:nvPr/>
          </p:nvSpPr>
          <p:spPr>
            <a:xfrm>
              <a:off x="2907000" y="5294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37"/>
            <p:cNvSpPr/>
            <p:nvPr/>
          </p:nvSpPr>
          <p:spPr>
            <a:xfrm>
              <a:off x="3356280" y="4565880"/>
              <a:ext cx="67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Rectangle 38"/>
          <p:cNvSpPr/>
          <p:nvPr/>
        </p:nvSpPr>
        <p:spPr>
          <a:xfrm>
            <a:off x="4794840" y="2825640"/>
            <a:ext cx="38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In general the planes may not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et at right angles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Group 39"/>
          <p:cNvGrpSpPr/>
          <p:nvPr/>
        </p:nvGrpSpPr>
        <p:grpSpPr>
          <a:xfrm>
            <a:off x="5765760" y="3753000"/>
            <a:ext cx="2070720" cy="2151360"/>
            <a:chOff x="5765760" y="3753000"/>
            <a:chExt cx="2070720" cy="2151360"/>
          </a:xfrm>
        </p:grpSpPr>
        <p:sp>
          <p:nvSpPr>
            <p:cNvPr id="1360" name="Freeform 40"/>
            <p:cNvSpPr/>
            <p:nvPr/>
          </p:nvSpPr>
          <p:spPr>
            <a:xfrm>
              <a:off x="6059520" y="5315040"/>
              <a:ext cx="452520" cy="4968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Group 41"/>
            <p:cNvGrpSpPr/>
            <p:nvPr/>
          </p:nvGrpSpPr>
          <p:grpSpPr>
            <a:xfrm>
              <a:off x="5765760" y="3753000"/>
              <a:ext cx="2070720" cy="2151360"/>
              <a:chOff x="5765760" y="3753000"/>
              <a:chExt cx="2070720" cy="2151360"/>
            </a:xfrm>
          </p:grpSpPr>
          <p:grpSp>
            <p:nvGrpSpPr>
              <p:cNvPr id="1362" name="Group 42"/>
              <p:cNvGrpSpPr/>
              <p:nvPr/>
            </p:nvGrpSpPr>
            <p:grpSpPr>
              <a:xfrm>
                <a:off x="6180480" y="4714920"/>
                <a:ext cx="1656000" cy="678240"/>
                <a:chOff x="6180480" y="4714920"/>
                <a:chExt cx="1656000" cy="678240"/>
              </a:xfrm>
            </p:grpSpPr>
            <p:sp>
              <p:nvSpPr>
                <p:cNvPr id="1363" name="Freeform 43"/>
                <p:cNvSpPr/>
                <p:nvPr/>
              </p:nvSpPr>
              <p:spPr>
                <a:xfrm>
                  <a:off x="6187680" y="4720320"/>
                  <a:ext cx="1641240" cy="667080"/>
                </a:xfrm>
                <a:custGeom>
                  <a:avLst/>
                  <a:gdLst>
                    <a:gd name="textAreaLeft" fmla="*/ 0 w 1641240"/>
                    <a:gd name="textAreaRight" fmla="*/ 1641600 w 1641240"/>
                    <a:gd name="textAreaTop" fmla="*/ 0 h 667080"/>
                    <a:gd name="textAreaBottom" fmla="*/ 667440 h 66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44"/>
                <p:cNvSpPr/>
                <p:nvPr/>
              </p:nvSpPr>
              <p:spPr>
                <a:xfrm>
                  <a:off x="6180480" y="4714920"/>
                  <a:ext cx="1656000" cy="678240"/>
                </a:xfrm>
                <a:custGeom>
                  <a:avLst/>
                  <a:gdLst>
                    <a:gd name="textAreaLeft" fmla="*/ 0 w 1656000"/>
                    <a:gd name="textAreaRight" fmla="*/ 1656360 w 1656000"/>
                    <a:gd name="textAreaTop" fmla="*/ 0 h 678240"/>
                    <a:gd name="textAreaBottom" fmla="*/ 678600 h 67824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5" name="Group 45"/>
              <p:cNvGrpSpPr/>
              <p:nvPr/>
            </p:nvGrpSpPr>
            <p:grpSpPr>
              <a:xfrm>
                <a:off x="6378840" y="4812840"/>
                <a:ext cx="390240" cy="1091520"/>
                <a:chOff x="6378840" y="4812840"/>
                <a:chExt cx="390240" cy="1091520"/>
              </a:xfrm>
            </p:grpSpPr>
            <p:sp>
              <p:nvSpPr>
                <p:cNvPr id="1366" name="Freeform 46"/>
                <p:cNvSpPr/>
                <p:nvPr/>
              </p:nvSpPr>
              <p:spPr>
                <a:xfrm>
                  <a:off x="6384240" y="4825800"/>
                  <a:ext cx="378720" cy="1065240"/>
                </a:xfrm>
                <a:custGeom>
                  <a:avLst/>
                  <a:gdLst>
                    <a:gd name="textAreaLeft" fmla="*/ 0 w 378720"/>
                    <a:gd name="textAreaRight" fmla="*/ 379080 w 378720"/>
                    <a:gd name="textAreaTop" fmla="*/ 0 h 1065240"/>
                    <a:gd name="textAreaBottom" fmla="*/ 1065600 h 106524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47"/>
                <p:cNvSpPr/>
                <p:nvPr/>
              </p:nvSpPr>
              <p:spPr>
                <a:xfrm>
                  <a:off x="6378840" y="4812840"/>
                  <a:ext cx="390240" cy="1091520"/>
                </a:xfrm>
                <a:custGeom>
                  <a:avLst/>
                  <a:gdLst>
                    <a:gd name="textAreaLeft" fmla="*/ 0 w 390240"/>
                    <a:gd name="textAreaRight" fmla="*/ 390600 w 390240"/>
                    <a:gd name="textAreaTop" fmla="*/ 0 h 1091520"/>
                    <a:gd name="textAreaBottom" fmla="*/ 1091880 h 109152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48"/>
              <p:cNvGrpSpPr/>
              <p:nvPr/>
            </p:nvGrpSpPr>
            <p:grpSpPr>
              <a:xfrm>
                <a:off x="6199560" y="4188240"/>
                <a:ext cx="1531800" cy="735480"/>
                <a:chOff x="6199560" y="4188240"/>
                <a:chExt cx="1531800" cy="735480"/>
              </a:xfrm>
            </p:grpSpPr>
            <p:sp>
              <p:nvSpPr>
                <p:cNvPr id="1369" name="Freeform 49"/>
                <p:cNvSpPr/>
                <p:nvPr/>
              </p:nvSpPr>
              <p:spPr>
                <a:xfrm>
                  <a:off x="6208920" y="4194000"/>
                  <a:ext cx="1513080" cy="723960"/>
                </a:xfrm>
                <a:custGeom>
                  <a:avLst/>
                  <a:gdLst>
                    <a:gd name="textAreaLeft" fmla="*/ 0 w 1513080"/>
                    <a:gd name="textAreaRight" fmla="*/ 1513440 w 151308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50"/>
                <p:cNvSpPr/>
                <p:nvPr/>
              </p:nvSpPr>
              <p:spPr>
                <a:xfrm>
                  <a:off x="6199560" y="4188240"/>
                  <a:ext cx="1531800" cy="735480"/>
                </a:xfrm>
                <a:custGeom>
                  <a:avLst/>
                  <a:gdLst>
                    <a:gd name="textAreaLeft" fmla="*/ 0 w 1531800"/>
                    <a:gd name="textAreaRight" fmla="*/ 1532160 w 1531800"/>
                    <a:gd name="textAreaTop" fmla="*/ 0 h 735480"/>
                    <a:gd name="textAreaBottom" fmla="*/ 735840 h 73548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1" name="Group 51"/>
              <p:cNvGrpSpPr/>
              <p:nvPr/>
            </p:nvGrpSpPr>
            <p:grpSpPr>
              <a:xfrm>
                <a:off x="6742800" y="3753000"/>
                <a:ext cx="388080" cy="1093320"/>
                <a:chOff x="6742800" y="3753000"/>
                <a:chExt cx="388080" cy="1093320"/>
              </a:xfrm>
            </p:grpSpPr>
            <p:sp>
              <p:nvSpPr>
                <p:cNvPr id="1372" name="Freeform 52"/>
                <p:cNvSpPr/>
                <p:nvPr/>
              </p:nvSpPr>
              <p:spPr>
                <a:xfrm>
                  <a:off x="6746400" y="3765960"/>
                  <a:ext cx="380880" cy="10652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5240"/>
                    <a:gd name="textAreaBottom" fmla="*/ 1065600 h 106524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53"/>
                <p:cNvSpPr/>
                <p:nvPr/>
              </p:nvSpPr>
              <p:spPr>
                <a:xfrm>
                  <a:off x="6742800" y="3753000"/>
                  <a:ext cx="388080" cy="109332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093320"/>
                    <a:gd name="textAreaBottom" fmla="*/ 1093680 h 109332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4" name="Group 54"/>
              <p:cNvGrpSpPr/>
              <p:nvPr/>
            </p:nvGrpSpPr>
            <p:grpSpPr>
              <a:xfrm>
                <a:off x="5765760" y="4260240"/>
                <a:ext cx="1636920" cy="667440"/>
                <a:chOff x="5765760" y="4260240"/>
                <a:chExt cx="1636920" cy="667440"/>
              </a:xfrm>
            </p:grpSpPr>
            <p:sp>
              <p:nvSpPr>
                <p:cNvPr id="1375" name="Freeform 55"/>
                <p:cNvSpPr/>
                <p:nvPr/>
              </p:nvSpPr>
              <p:spPr>
                <a:xfrm>
                  <a:off x="5772960" y="4263840"/>
                  <a:ext cx="1620360" cy="658080"/>
                </a:xfrm>
                <a:custGeom>
                  <a:avLst/>
                  <a:gdLst>
                    <a:gd name="textAreaLeft" fmla="*/ 0 w 1620360"/>
                    <a:gd name="textAreaRight" fmla="*/ 1620720 w 1620360"/>
                    <a:gd name="textAreaTop" fmla="*/ 0 h 658080"/>
                    <a:gd name="textAreaBottom" fmla="*/ 658440 h 65808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56"/>
                <p:cNvSpPr/>
                <p:nvPr/>
              </p:nvSpPr>
              <p:spPr>
                <a:xfrm>
                  <a:off x="5765760" y="4260240"/>
                  <a:ext cx="1636920" cy="667440"/>
                </a:xfrm>
                <a:custGeom>
                  <a:avLst/>
                  <a:gdLst>
                    <a:gd name="textAreaLeft" fmla="*/ 0 w 1636920"/>
                    <a:gd name="textAreaRight" fmla="*/ 1637280 w 1636920"/>
                    <a:gd name="textAreaTop" fmla="*/ 0 h 667440"/>
                    <a:gd name="textAreaBottom" fmla="*/ 667800 h 66744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7" name="Group 57"/>
              <p:cNvGrpSpPr/>
              <p:nvPr/>
            </p:nvGrpSpPr>
            <p:grpSpPr>
              <a:xfrm>
                <a:off x="5873040" y="4714920"/>
                <a:ext cx="1529640" cy="735480"/>
                <a:chOff x="5873040" y="4714920"/>
                <a:chExt cx="1529640" cy="735480"/>
              </a:xfrm>
            </p:grpSpPr>
            <p:sp>
              <p:nvSpPr>
                <p:cNvPr id="1378" name="Freeform 58"/>
                <p:cNvSpPr/>
                <p:nvPr/>
              </p:nvSpPr>
              <p:spPr>
                <a:xfrm>
                  <a:off x="5880600" y="4720320"/>
                  <a:ext cx="1514880" cy="723960"/>
                </a:xfrm>
                <a:custGeom>
                  <a:avLst/>
                  <a:gdLst>
                    <a:gd name="textAreaLeft" fmla="*/ 0 w 1514880"/>
                    <a:gd name="textAreaRight" fmla="*/ 1515240 w 151488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59"/>
                <p:cNvSpPr/>
                <p:nvPr/>
              </p:nvSpPr>
              <p:spPr>
                <a:xfrm>
                  <a:off x="5873040" y="4714920"/>
                  <a:ext cx="1529640" cy="735480"/>
                </a:xfrm>
                <a:custGeom>
                  <a:avLst/>
                  <a:gdLst>
                    <a:gd name="textAreaLeft" fmla="*/ 0 w 1529640"/>
                    <a:gd name="textAreaRight" fmla="*/ 1530000 w 1529640"/>
                    <a:gd name="textAreaTop" fmla="*/ 0 h 735480"/>
                    <a:gd name="textAreaBottom" fmla="*/ 735840 h 73548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0" name="Group 60"/>
              <p:cNvGrpSpPr/>
              <p:nvPr/>
            </p:nvGrpSpPr>
            <p:grpSpPr>
              <a:xfrm>
                <a:off x="6393600" y="4269600"/>
                <a:ext cx="388440" cy="1093680"/>
                <a:chOff x="6393600" y="4269600"/>
                <a:chExt cx="388440" cy="1093680"/>
              </a:xfrm>
            </p:grpSpPr>
            <p:sp>
              <p:nvSpPr>
                <p:cNvPr id="1381" name="Freeform 61"/>
                <p:cNvSpPr/>
                <p:nvPr/>
              </p:nvSpPr>
              <p:spPr>
                <a:xfrm>
                  <a:off x="6397200" y="4282560"/>
                  <a:ext cx="380880" cy="1067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7400"/>
                    <a:gd name="textAreaBottom" fmla="*/ 1067760 h 106740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62"/>
                <p:cNvSpPr/>
                <p:nvPr/>
              </p:nvSpPr>
              <p:spPr>
                <a:xfrm>
                  <a:off x="6393600" y="4269600"/>
                  <a:ext cx="388440" cy="1093680"/>
                </a:xfrm>
                <a:custGeom>
                  <a:avLst/>
                  <a:gdLst>
                    <a:gd name="textAreaLeft" fmla="*/ 0 w 388440"/>
                    <a:gd name="textAreaRight" fmla="*/ 388800 w 388440"/>
                    <a:gd name="textAreaTop" fmla="*/ 0 h 1093680"/>
                    <a:gd name="textAreaBottom" fmla="*/ 1094040 h 10936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3" name="Freeform 63"/>
            <p:cNvSpPr/>
            <p:nvPr/>
          </p:nvSpPr>
          <p:spPr>
            <a:xfrm>
              <a:off x="6213600" y="3922560"/>
              <a:ext cx="112680" cy="113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64"/>
            <p:cNvSpPr/>
            <p:nvPr/>
          </p:nvSpPr>
          <p:spPr>
            <a:xfrm>
              <a:off x="6254640" y="4854600"/>
              <a:ext cx="22320" cy="37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65"/>
            <p:cNvSpPr/>
            <p:nvPr/>
          </p:nvSpPr>
          <p:spPr>
            <a:xfrm>
              <a:off x="6116760" y="5594400"/>
              <a:ext cx="2872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66"/>
            <p:cNvSpPr/>
            <p:nvPr/>
          </p:nvSpPr>
          <p:spPr>
            <a:xfrm>
              <a:off x="6529320" y="5595840"/>
              <a:ext cx="118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7"/>
            <p:cNvSpPr/>
            <p:nvPr/>
          </p:nvSpPr>
          <p:spPr>
            <a:xfrm>
              <a:off x="7711920" y="5549760"/>
              <a:ext cx="111240" cy="1126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68"/>
            <p:cNvSpPr/>
            <p:nvPr/>
          </p:nvSpPr>
          <p:spPr>
            <a:xfrm>
              <a:off x="6254640" y="4645080"/>
              <a:ext cx="22320" cy="37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69"/>
            <p:cNvSpPr/>
            <p:nvPr/>
          </p:nvSpPr>
          <p:spPr>
            <a:xfrm>
              <a:off x="6254640" y="4017960"/>
              <a:ext cx="22320" cy="37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70"/>
            <p:cNvSpPr/>
            <p:nvPr/>
          </p:nvSpPr>
          <p:spPr>
            <a:xfrm>
              <a:off x="6254640" y="5383080"/>
              <a:ext cx="22320" cy="37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393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395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396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8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399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1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402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405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408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0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411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3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414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6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425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426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429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432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4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435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438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0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441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442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4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445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448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0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451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461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462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465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468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471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474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6" name="Text Box 93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94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95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97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98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99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102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105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98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Text Box 2"/>
          <p:cNvSpPr/>
          <p:nvPr/>
        </p:nvSpPr>
        <p:spPr>
          <a:xfrm>
            <a:off x="228600" y="1905120"/>
            <a:ext cx="8458200" cy="1202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490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1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492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493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5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496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499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502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4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505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7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508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0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511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3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522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523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526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529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532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535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7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538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539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1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542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545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7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548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558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559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562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565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568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571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3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94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Box 1"/>
          <p:cNvSpPr/>
          <p:nvPr/>
        </p:nvSpPr>
        <p:spPr>
          <a:xfrm>
            <a:off x="317520" y="64864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Part 1:</a:t>
            </a:r>
            <a:br>
              <a:rPr sz="5400"/>
            </a:br>
            <a:br>
              <a:rPr sz="5400"/>
            </a:b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Simultaneous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4"/>
          <p:cNvSpPr/>
          <p:nvPr/>
        </p:nvSpPr>
        <p:spPr>
          <a:xfrm>
            <a:off x="2744640" y="353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6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2744640" y="353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4"/>
          <p:cNvSpPr/>
          <p:nvPr/>
        </p:nvSpPr>
        <p:spPr>
          <a:xfrm>
            <a:off x="351000" y="4183200"/>
            <a:ext cx="397980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6"/>
          <p:cNvSpPr/>
          <p:nvPr/>
        </p:nvSpPr>
        <p:spPr>
          <a:xfrm>
            <a:off x="426960" y="5307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ree pla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2744640" y="353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1"/>
          <p:cNvSpPr/>
          <p:nvPr/>
        </p:nvSpPr>
        <p:spPr>
          <a:xfrm>
            <a:off x="228600" y="3733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t is not possible fo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8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to be equal to 4, 7 and 9.5 all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2"/>
          <p:cNvSpPr/>
          <p:nvPr/>
        </p:nvSpPr>
        <p:spPr>
          <a:xfrm>
            <a:off x="333720" y="422280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are in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3"/>
          <p:cNvSpPr/>
          <p:nvPr/>
        </p:nvSpPr>
        <p:spPr>
          <a:xfrm>
            <a:off x="411480" y="48369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Group 14"/>
          <p:cNvGrpSpPr/>
          <p:nvPr/>
        </p:nvGrpSpPr>
        <p:grpSpPr>
          <a:xfrm>
            <a:off x="5762520" y="4397400"/>
            <a:ext cx="2164680" cy="1843920"/>
            <a:chOff x="5762520" y="4397400"/>
            <a:chExt cx="2164680" cy="1843920"/>
          </a:xfrm>
        </p:grpSpPr>
        <p:grpSp>
          <p:nvGrpSpPr>
            <p:cNvPr id="1604" name="Group 15"/>
            <p:cNvGrpSpPr/>
            <p:nvPr/>
          </p:nvGrpSpPr>
          <p:grpSpPr>
            <a:xfrm>
              <a:off x="5762520" y="4397400"/>
              <a:ext cx="1736280" cy="1183320"/>
              <a:chOff x="5762520" y="4397400"/>
              <a:chExt cx="1736280" cy="1183320"/>
            </a:xfrm>
          </p:grpSpPr>
          <p:sp>
            <p:nvSpPr>
              <p:cNvPr id="1605" name="Freeform 16"/>
              <p:cNvSpPr/>
              <p:nvPr/>
            </p:nvSpPr>
            <p:spPr>
              <a:xfrm>
                <a:off x="5770800" y="4401360"/>
                <a:ext cx="1718640" cy="1174680"/>
              </a:xfrm>
              <a:custGeom>
                <a:avLst/>
                <a:gdLst>
                  <a:gd name="textAreaLeft" fmla="*/ 0 w 1718640"/>
                  <a:gd name="textAreaRight" fmla="*/ 1719000 w 1718640"/>
                  <a:gd name="textAreaTop" fmla="*/ 0 h 1174680"/>
                  <a:gd name="textAreaBottom" fmla="*/ 1175040 h 1174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7"/>
              <p:cNvSpPr/>
              <p:nvPr/>
            </p:nvSpPr>
            <p:spPr>
              <a:xfrm>
                <a:off x="5762520" y="4397400"/>
                <a:ext cx="1736280" cy="1183320"/>
              </a:xfrm>
              <a:custGeom>
                <a:avLst/>
                <a:gdLst>
                  <a:gd name="textAreaLeft" fmla="*/ 0 w 1736280"/>
                  <a:gd name="textAreaRight" fmla="*/ 1736640 w 1736280"/>
                  <a:gd name="textAreaTop" fmla="*/ 0 h 1183320"/>
                  <a:gd name="textAreaBottom" fmla="*/ 1183680 h 11833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Group 18"/>
            <p:cNvGrpSpPr/>
            <p:nvPr/>
          </p:nvGrpSpPr>
          <p:grpSpPr>
            <a:xfrm>
              <a:off x="5996520" y="4692960"/>
              <a:ext cx="1736280" cy="1185840"/>
              <a:chOff x="5996520" y="4692960"/>
              <a:chExt cx="1736280" cy="1185840"/>
            </a:xfrm>
          </p:grpSpPr>
          <p:sp>
            <p:nvSpPr>
              <p:cNvPr id="1608" name="Freeform 19"/>
              <p:cNvSpPr/>
              <p:nvPr/>
            </p:nvSpPr>
            <p:spPr>
              <a:xfrm>
                <a:off x="6005520" y="4699800"/>
                <a:ext cx="1720800" cy="1172520"/>
              </a:xfrm>
              <a:custGeom>
                <a:avLst/>
                <a:gdLst>
                  <a:gd name="textAreaLeft" fmla="*/ 0 w 1720800"/>
                  <a:gd name="textAreaRight" fmla="*/ 1721160 w 1720800"/>
                  <a:gd name="textAreaTop" fmla="*/ 0 h 1172520"/>
                  <a:gd name="textAreaBottom" fmla="*/ 1172880 h 117252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20"/>
              <p:cNvSpPr/>
              <p:nvPr/>
            </p:nvSpPr>
            <p:spPr>
              <a:xfrm>
                <a:off x="5996520" y="4692960"/>
                <a:ext cx="1736280" cy="1185840"/>
              </a:xfrm>
              <a:custGeom>
                <a:avLst/>
                <a:gdLst>
                  <a:gd name="textAreaLeft" fmla="*/ 0 w 1736280"/>
                  <a:gd name="textAreaRight" fmla="*/ 1736640 w 1736280"/>
                  <a:gd name="textAreaTop" fmla="*/ 0 h 1185840"/>
                  <a:gd name="textAreaBottom" fmla="*/ 1186200 h 118584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Group 21"/>
            <p:cNvGrpSpPr/>
            <p:nvPr/>
          </p:nvGrpSpPr>
          <p:grpSpPr>
            <a:xfrm>
              <a:off x="6190920" y="5055480"/>
              <a:ext cx="1736280" cy="1185840"/>
              <a:chOff x="6190920" y="5055480"/>
              <a:chExt cx="1736280" cy="1185840"/>
            </a:xfrm>
          </p:grpSpPr>
          <p:sp>
            <p:nvSpPr>
              <p:cNvPr id="1611" name="Freeform 22"/>
              <p:cNvSpPr/>
              <p:nvPr/>
            </p:nvSpPr>
            <p:spPr>
              <a:xfrm>
                <a:off x="6199920" y="5061960"/>
                <a:ext cx="1718280" cy="1172520"/>
              </a:xfrm>
              <a:custGeom>
                <a:avLst/>
                <a:gdLst>
                  <a:gd name="textAreaLeft" fmla="*/ 0 w 1718280"/>
                  <a:gd name="textAreaRight" fmla="*/ 1718640 w 1718280"/>
                  <a:gd name="textAreaTop" fmla="*/ 0 h 1172520"/>
                  <a:gd name="textAreaBottom" fmla="*/ 1172880 h 117252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23"/>
              <p:cNvSpPr/>
              <p:nvPr/>
            </p:nvSpPr>
            <p:spPr>
              <a:xfrm>
                <a:off x="6190920" y="5055480"/>
                <a:ext cx="1736280" cy="1185840"/>
              </a:xfrm>
              <a:custGeom>
                <a:avLst/>
                <a:gdLst>
                  <a:gd name="textAreaLeft" fmla="*/ 0 w 1736280"/>
                  <a:gd name="textAreaRight" fmla="*/ 1736640 w 1736280"/>
                  <a:gd name="textAreaTop" fmla="*/ 0 h 1185840"/>
                  <a:gd name="textAreaBottom" fmla="*/ 1186200 h 118584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Rectangle 24"/>
          <p:cNvSpPr/>
          <p:nvPr/>
        </p:nvSpPr>
        <p:spPr>
          <a:xfrm>
            <a:off x="661680" y="6019920"/>
            <a:ext cx="7931880" cy="459720"/>
          </a:xfrm>
          <a:prstGeom prst="rect">
            <a:avLst/>
          </a:prstGeom>
          <a:solidFill>
            <a:srgbClr val="ffffff"/>
          </a:solidFill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ok for:  Same ratio of co-efficients in all 3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 Box 96"/>
          <p:cNvSpPr/>
          <p:nvPr/>
        </p:nvSpPr>
        <p:spPr>
          <a:xfrm>
            <a:off x="228600" y="1905120"/>
            <a:ext cx="8458200" cy="1202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617" name="Freeform 4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5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619" name="Group 6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620" name="Freeform 7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Freeform 8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2" name="Group 9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623" name="Freeform 10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Freeform 11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Group 12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626" name="Freeform 13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Freeform 14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Group 15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629" name="Freeform 16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Freeform 17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1" name="Group 18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632" name="Freeform 19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Freeform 20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4" name="Group 21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635" name="Freeform 22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Freeform 23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7" name="Group 24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638" name="Freeform 25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Freeform 26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0" name="Freeform 27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28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29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30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1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32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33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34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Group 35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649" name="Group 36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650" name="Freeform 37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38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2" name="Group 39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653" name="Freeform 40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1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Group 42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656" name="Freeform 43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4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8" name="Group 45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659" name="Freeform 46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7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48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662" name="Freeform 49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50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4" name="Group 51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665" name="Group 52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666" name="Freeform 53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54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Group 55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669" name="Freeform 56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57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1" name="Group 58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672" name="Freeform 59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60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4" name="Group 61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675" name="Freeform 62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3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4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5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6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7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8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69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0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71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685" name="Group 72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686" name="Freeform 73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74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8" name="Group 75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689" name="Freeform 76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77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78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692" name="Freeform 79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80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1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695" name="Freeform 82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83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Group 84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698" name="Freeform 85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86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Text Box 87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88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89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91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92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95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Text Box 2"/>
          <p:cNvSpPr/>
          <p:nvPr/>
        </p:nvSpPr>
        <p:spPr>
          <a:xfrm>
            <a:off x="0" y="304812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714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5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716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717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720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723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726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729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1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732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4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735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7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746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747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9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750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2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753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5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756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8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759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1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762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763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766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8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769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1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772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782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783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5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786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8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789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792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4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795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7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94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6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7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9" dur="1" fill="hold"/>
                                  <p:tgtEl>
                                    <p:spTgt spid="1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5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6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11"/>
          <p:cNvSpPr/>
          <p:nvPr/>
        </p:nvSpPr>
        <p:spPr>
          <a:xfrm>
            <a:off x="4572000" y="6172200"/>
            <a:ext cx="419112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12"/>
          <p:cNvSpPr/>
          <p:nvPr/>
        </p:nvSpPr>
        <p:spPr>
          <a:xfrm>
            <a:off x="32904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15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1824" name="Freeform 16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7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9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0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2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3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4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25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1834" name="Group 26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1835" name="Freeform 27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28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7" name="Group 29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1838" name="Freeform 30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31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Group 32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1841" name="Freeform 33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34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Group 35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1844" name="Freeform 36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37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6" name="Group 38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1847" name="Freeform 39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40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9" name="Rectangle 41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42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Rectangle 4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5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6"/>
          <p:cNvSpPr/>
          <p:nvPr/>
        </p:nvSpPr>
        <p:spPr>
          <a:xfrm>
            <a:off x="4495680" y="6172200"/>
            <a:ext cx="42674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7"/>
          <p:cNvSpPr/>
          <p:nvPr/>
        </p:nvSpPr>
        <p:spPr>
          <a:xfrm>
            <a:off x="25308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1858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1868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1869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1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1872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4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1875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7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1878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1881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4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5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6"/>
          <p:cNvSpPr/>
          <p:nvPr/>
        </p:nvSpPr>
        <p:spPr>
          <a:xfrm>
            <a:off x="4419720" y="6172200"/>
            <a:ext cx="434340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7"/>
          <p:cNvSpPr/>
          <p:nvPr/>
        </p:nvSpPr>
        <p:spPr>
          <a:xfrm>
            <a:off x="17676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1892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1902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1903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5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1906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8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1909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1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1912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4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1915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7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35"/>
          <p:cNvSpPr/>
          <p:nvPr/>
        </p:nvSpPr>
        <p:spPr>
          <a:xfrm>
            <a:off x="4191120" y="40384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36"/>
          <p:cNvSpPr/>
          <p:nvPr/>
        </p:nvSpPr>
        <p:spPr>
          <a:xfrm>
            <a:off x="6172200" y="3276720"/>
            <a:ext cx="2438280" cy="1676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37"/>
          <p:cNvSpPr/>
          <p:nvPr/>
        </p:nvSpPr>
        <p:spPr>
          <a:xfrm>
            <a:off x="4419720" y="5638680"/>
            <a:ext cx="448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 Triangular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38"/>
          <p:cNvSpPr/>
          <p:nvPr/>
        </p:nvSpPr>
        <p:spPr>
          <a:xfrm>
            <a:off x="3962520" y="1569600"/>
            <a:ext cx="5181480" cy="195336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metrically: “Each plane is parallel to the line of intersection of the other 2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HECK: No pairs of planes are parallel. We know this because none of the original equations share the same ratio of coefficients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ESSON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vision of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2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uLake pg 175 – Q1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raphing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2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que solution – lines intersect at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olution – lines are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inite solutions – lin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295280" y="1295280"/>
            <a:ext cx="6477120" cy="1595880"/>
          </a:xfrm>
          <a:prstGeom prst="rect">
            <a:avLst/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×2 Simultaneous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first 2 pages of handout booklet (pg. 71 &amp; 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Text Box 2"/>
          <p:cNvSpPr/>
          <p:nvPr/>
        </p:nvSpPr>
        <p:spPr>
          <a:xfrm>
            <a:off x="228600" y="304812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925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6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927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928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0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931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934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6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937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9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940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2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943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5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946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8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957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958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961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964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6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967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9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970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2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973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974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977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9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980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2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983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2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993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994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997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000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003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006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8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92"/>
          <p:cNvSpPr/>
          <p:nvPr/>
        </p:nvSpPr>
        <p:spPr>
          <a:xfrm>
            <a:off x="563868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95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96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7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6"/>
          <p:cNvSpPr/>
          <p:nvPr/>
        </p:nvSpPr>
        <p:spPr>
          <a:xfrm>
            <a:off x="4572000" y="6172200"/>
            <a:ext cx="419112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7"/>
          <p:cNvSpPr/>
          <p:nvPr/>
        </p:nvSpPr>
        <p:spPr>
          <a:xfrm>
            <a:off x="25308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3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2034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3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2044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2045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7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2048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0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2051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2054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6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2057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36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37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38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6"/>
          <p:cNvSpPr/>
          <p:nvPr/>
        </p:nvSpPr>
        <p:spPr>
          <a:xfrm>
            <a:off x="4495680" y="6172200"/>
            <a:ext cx="42674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7"/>
          <p:cNvSpPr/>
          <p:nvPr/>
        </p:nvSpPr>
        <p:spPr>
          <a:xfrm>
            <a:off x="25308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2068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2078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2079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2082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4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2085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2088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0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2091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3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36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37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Rectangle 38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4419720" y="6172200"/>
            <a:ext cx="434340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17676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Group 8"/>
          <p:cNvGrpSpPr/>
          <p:nvPr/>
        </p:nvGrpSpPr>
        <p:grpSpPr>
          <a:xfrm>
            <a:off x="6778080" y="3428280"/>
            <a:ext cx="1788480" cy="1250640"/>
            <a:chOff x="6778080" y="3428280"/>
            <a:chExt cx="1788480" cy="1250640"/>
          </a:xfrm>
        </p:grpSpPr>
        <p:sp>
          <p:nvSpPr>
            <p:cNvPr id="2102" name="Freeform 9"/>
            <p:cNvSpPr/>
            <p:nvPr/>
          </p:nvSpPr>
          <p:spPr>
            <a:xfrm rot="21052200">
              <a:off x="7032240" y="352656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"/>
            <p:cNvSpPr/>
            <p:nvPr/>
          </p:nvSpPr>
          <p:spPr>
            <a:xfrm rot="21052200">
              <a:off x="7153560" y="350532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1"/>
            <p:cNvSpPr/>
            <p:nvPr/>
          </p:nvSpPr>
          <p:spPr>
            <a:xfrm rot="21052200">
              <a:off x="7196400" y="365796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2"/>
            <p:cNvSpPr/>
            <p:nvPr/>
          </p:nvSpPr>
          <p:spPr>
            <a:xfrm rot="21052200">
              <a:off x="7533000" y="409824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3"/>
            <p:cNvSpPr/>
            <p:nvPr/>
          </p:nvSpPr>
          <p:spPr>
            <a:xfrm rot="21052200">
              <a:off x="6896160" y="406332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4"/>
            <p:cNvSpPr/>
            <p:nvPr/>
          </p:nvSpPr>
          <p:spPr>
            <a:xfrm rot="21052200">
              <a:off x="6839280" y="452052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5"/>
            <p:cNvSpPr/>
            <p:nvPr/>
          </p:nvSpPr>
          <p:spPr>
            <a:xfrm rot="21052200">
              <a:off x="6781680" y="448308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"/>
            <p:cNvSpPr/>
            <p:nvPr/>
          </p:nvSpPr>
          <p:spPr>
            <a:xfrm rot="21052200">
              <a:off x="6919560" y="431676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7"/>
            <p:cNvSpPr/>
            <p:nvPr/>
          </p:nvSpPr>
          <p:spPr>
            <a:xfrm rot="21052200">
              <a:off x="7516800" y="405288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2112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2113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5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2116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2119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1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2122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4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2125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7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Oval 36"/>
          <p:cNvSpPr/>
          <p:nvPr/>
        </p:nvSpPr>
        <p:spPr>
          <a:xfrm>
            <a:off x="6477120" y="4800600"/>
            <a:ext cx="243828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38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39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40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41"/>
          <p:cNvSpPr/>
          <p:nvPr/>
        </p:nvSpPr>
        <p:spPr>
          <a:xfrm>
            <a:off x="4267080" y="2102400"/>
            <a:ext cx="4876920" cy="192312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metrically: “2 planes are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hird cuts th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Equations (1) and (2)  represent 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 parallel planes because both have same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RATIO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of coefficients { 1:5:1 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8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Text Box 2"/>
          <p:cNvSpPr/>
          <p:nvPr/>
        </p:nvSpPr>
        <p:spPr>
          <a:xfrm>
            <a:off x="228600" y="304812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137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8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139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140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2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143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5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146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8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149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1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152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4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155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7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158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0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169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170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2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173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5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176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8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179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1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182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4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185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186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189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1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192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4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195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205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206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8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209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1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212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4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215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7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218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0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Text Box 2"/>
          <p:cNvSpPr/>
          <p:nvPr/>
        </p:nvSpPr>
        <p:spPr>
          <a:xfrm>
            <a:off x="228600" y="484020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234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5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236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237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9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240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2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243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5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246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8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249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1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252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255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7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266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267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9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270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2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273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5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276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8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279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1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282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283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5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286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8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289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1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292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302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303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5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306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309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312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4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315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7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4"/>
          <p:cNvSpPr/>
          <p:nvPr/>
        </p:nvSpPr>
        <p:spPr>
          <a:xfrm>
            <a:off x="2717640" y="3157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6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2" dur="1" fill="hold"/>
                                  <p:tgtEl>
                                    <p:spTgt spid="2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5"/>
          <p:cNvSpPr/>
          <p:nvPr/>
        </p:nvSpPr>
        <p:spPr>
          <a:xfrm>
            <a:off x="2717640" y="3157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6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7"/>
          <p:cNvSpPr/>
          <p:nvPr/>
        </p:nvSpPr>
        <p:spPr>
          <a:xfrm>
            <a:off x="5586120" y="152280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examp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10"/>
          <p:cNvSpPr/>
          <p:nvPr/>
        </p:nvSpPr>
        <p:spPr>
          <a:xfrm>
            <a:off x="304920" y="5029200"/>
            <a:ext cx="56386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11"/>
          <p:cNvSpPr/>
          <p:nvPr/>
        </p:nvSpPr>
        <p:spPr>
          <a:xfrm>
            <a:off x="228600" y="50292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e say the equation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Non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13"/>
          <p:cNvSpPr/>
          <p:nvPr/>
        </p:nvSpPr>
        <p:spPr>
          <a:xfrm>
            <a:off x="356040" y="56214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14"/>
          <p:cNvSpPr/>
          <p:nvPr/>
        </p:nvSpPr>
        <p:spPr>
          <a:xfrm>
            <a:off x="237240" y="6018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three planes meet along a singl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3" name="Group 15"/>
          <p:cNvGrpSpPr/>
          <p:nvPr/>
        </p:nvGrpSpPr>
        <p:grpSpPr>
          <a:xfrm>
            <a:off x="6095880" y="4952880"/>
            <a:ext cx="2537280" cy="1561320"/>
            <a:chOff x="6095880" y="4952880"/>
            <a:chExt cx="2537280" cy="1561320"/>
          </a:xfrm>
        </p:grpSpPr>
        <p:grpSp>
          <p:nvGrpSpPr>
            <p:cNvPr id="2344" name="Group 16"/>
            <p:cNvGrpSpPr/>
            <p:nvPr/>
          </p:nvGrpSpPr>
          <p:grpSpPr>
            <a:xfrm>
              <a:off x="6095880" y="5272560"/>
              <a:ext cx="1994400" cy="546840"/>
              <a:chOff x="6095880" y="5272560"/>
              <a:chExt cx="1994400" cy="546840"/>
            </a:xfrm>
          </p:grpSpPr>
          <p:sp>
            <p:nvSpPr>
              <p:cNvPr id="2345" name="Freeform 17"/>
              <p:cNvSpPr/>
              <p:nvPr/>
            </p:nvSpPr>
            <p:spPr>
              <a:xfrm>
                <a:off x="6111720" y="5277240"/>
                <a:ext cx="1962000" cy="537480"/>
              </a:xfrm>
              <a:custGeom>
                <a:avLst/>
                <a:gdLst>
                  <a:gd name="textAreaLeft" fmla="*/ 0 w 1962000"/>
                  <a:gd name="textAreaRight" fmla="*/ 1962360 w 196200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8"/>
              <p:cNvSpPr/>
              <p:nvPr/>
            </p:nvSpPr>
            <p:spPr>
              <a:xfrm>
                <a:off x="6095880" y="5272560"/>
                <a:ext cx="1994400" cy="546840"/>
              </a:xfrm>
              <a:custGeom>
                <a:avLst/>
                <a:gdLst>
                  <a:gd name="textAreaLeft" fmla="*/ 0 w 1994400"/>
                  <a:gd name="textAreaRight" fmla="*/ 1994760 w 19944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Group 19"/>
            <p:cNvGrpSpPr/>
            <p:nvPr/>
          </p:nvGrpSpPr>
          <p:grpSpPr>
            <a:xfrm>
              <a:off x="6247440" y="5571720"/>
              <a:ext cx="1830960" cy="880920"/>
              <a:chOff x="6247440" y="5571720"/>
              <a:chExt cx="1830960" cy="880920"/>
            </a:xfrm>
          </p:grpSpPr>
          <p:sp>
            <p:nvSpPr>
              <p:cNvPr id="2348" name="Freeform 20"/>
              <p:cNvSpPr/>
              <p:nvPr/>
            </p:nvSpPr>
            <p:spPr>
              <a:xfrm>
                <a:off x="6256800" y="5578200"/>
                <a:ext cx="1812600" cy="86724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867240"/>
                  <a:gd name="textAreaBottom" fmla="*/ 867600 h 86724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21"/>
              <p:cNvSpPr/>
              <p:nvPr/>
            </p:nvSpPr>
            <p:spPr>
              <a:xfrm>
                <a:off x="6247440" y="5571720"/>
                <a:ext cx="1830960" cy="880920"/>
              </a:xfrm>
              <a:custGeom>
                <a:avLst/>
                <a:gdLst>
                  <a:gd name="textAreaLeft" fmla="*/ 0 w 1830960"/>
                  <a:gd name="textAreaRight" fmla="*/ 1831320 w 1830960"/>
                  <a:gd name="textAreaTop" fmla="*/ 0 h 880920"/>
                  <a:gd name="textAreaBottom" fmla="*/ 880920 h 88092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Group 22"/>
            <p:cNvGrpSpPr/>
            <p:nvPr/>
          </p:nvGrpSpPr>
          <p:grpSpPr>
            <a:xfrm>
              <a:off x="6284520" y="5007960"/>
              <a:ext cx="2217600" cy="1506240"/>
              <a:chOff x="6284520" y="5007960"/>
              <a:chExt cx="2217600" cy="1506240"/>
            </a:xfrm>
          </p:grpSpPr>
          <p:sp>
            <p:nvSpPr>
              <p:cNvPr id="2351" name="Freeform 23"/>
              <p:cNvSpPr/>
              <p:nvPr/>
            </p:nvSpPr>
            <p:spPr>
              <a:xfrm>
                <a:off x="6291000" y="5014440"/>
                <a:ext cx="2201400" cy="1494720"/>
              </a:xfrm>
              <a:custGeom>
                <a:avLst/>
                <a:gdLst>
                  <a:gd name="textAreaLeft" fmla="*/ 0 w 2201400"/>
                  <a:gd name="textAreaRight" fmla="*/ 2201760 w 2201400"/>
                  <a:gd name="textAreaTop" fmla="*/ 0 h 1494720"/>
                  <a:gd name="textAreaBottom" fmla="*/ 1495080 h 149472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24"/>
              <p:cNvSpPr/>
              <p:nvPr/>
            </p:nvSpPr>
            <p:spPr>
              <a:xfrm>
                <a:off x="6284520" y="5007960"/>
                <a:ext cx="2217600" cy="1506240"/>
              </a:xfrm>
              <a:custGeom>
                <a:avLst/>
                <a:gdLst>
                  <a:gd name="textAreaLeft" fmla="*/ 0 w 2217600"/>
                  <a:gd name="textAreaRight" fmla="*/ 2217960 w 2217600"/>
                  <a:gd name="textAreaTop" fmla="*/ 0 h 1506240"/>
                  <a:gd name="textAreaBottom" fmla="*/ 1506600 h 150624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3" name="Group 25"/>
            <p:cNvGrpSpPr/>
            <p:nvPr/>
          </p:nvGrpSpPr>
          <p:grpSpPr>
            <a:xfrm>
              <a:off x="6627600" y="4952880"/>
              <a:ext cx="1833120" cy="878040"/>
              <a:chOff x="6627600" y="4952880"/>
              <a:chExt cx="1833120" cy="878040"/>
            </a:xfrm>
          </p:grpSpPr>
          <p:sp>
            <p:nvSpPr>
              <p:cNvPr id="2354" name="Freeform 26"/>
              <p:cNvSpPr/>
              <p:nvPr/>
            </p:nvSpPr>
            <p:spPr>
              <a:xfrm>
                <a:off x="6638760" y="4959360"/>
                <a:ext cx="1810080" cy="866520"/>
              </a:xfrm>
              <a:custGeom>
                <a:avLst/>
                <a:gdLst>
                  <a:gd name="textAreaLeft" fmla="*/ 0 w 1810080"/>
                  <a:gd name="textAreaRight" fmla="*/ 1810440 w 1810080"/>
                  <a:gd name="textAreaTop" fmla="*/ 0 h 866520"/>
                  <a:gd name="textAreaBottom" fmla="*/ 866880 h 86652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27"/>
              <p:cNvSpPr/>
              <p:nvPr/>
            </p:nvSpPr>
            <p:spPr>
              <a:xfrm>
                <a:off x="6627600" y="4952880"/>
                <a:ext cx="1833120" cy="878040"/>
              </a:xfrm>
              <a:custGeom>
                <a:avLst/>
                <a:gdLst>
                  <a:gd name="textAreaLeft" fmla="*/ 0 w 1833120"/>
                  <a:gd name="textAreaRight" fmla="*/ 1833480 w 1833120"/>
                  <a:gd name="textAreaTop" fmla="*/ 0 h 878040"/>
                  <a:gd name="textAreaBottom" fmla="*/ 878400 h 87804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6" name="Group 28"/>
            <p:cNvGrpSpPr/>
            <p:nvPr/>
          </p:nvGrpSpPr>
          <p:grpSpPr>
            <a:xfrm>
              <a:off x="6640920" y="5576400"/>
              <a:ext cx="1992240" cy="546840"/>
              <a:chOff x="6640920" y="5576400"/>
              <a:chExt cx="1992240" cy="546840"/>
            </a:xfrm>
          </p:grpSpPr>
          <p:sp>
            <p:nvSpPr>
              <p:cNvPr id="2357" name="Freeform 29"/>
              <p:cNvSpPr/>
              <p:nvPr/>
            </p:nvSpPr>
            <p:spPr>
              <a:xfrm>
                <a:off x="6654960" y="5581080"/>
                <a:ext cx="1964520" cy="537840"/>
              </a:xfrm>
              <a:custGeom>
                <a:avLst/>
                <a:gdLst>
                  <a:gd name="textAreaLeft" fmla="*/ 0 w 1964520"/>
                  <a:gd name="textAreaRight" fmla="*/ 1964880 w 1964520"/>
                  <a:gd name="textAreaTop" fmla="*/ 0 h 537840"/>
                  <a:gd name="textAreaBottom" fmla="*/ 537840 h 53784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30"/>
              <p:cNvSpPr/>
              <p:nvPr/>
            </p:nvSpPr>
            <p:spPr>
              <a:xfrm>
                <a:off x="6640920" y="5576400"/>
                <a:ext cx="1992240" cy="5468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9" name="Text Box 32"/>
          <p:cNvSpPr/>
          <p:nvPr/>
        </p:nvSpPr>
        <p:spPr>
          <a:xfrm>
            <a:off x="5562720" y="3581280"/>
            <a:ext cx="35812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Text Box 2"/>
          <p:cNvSpPr/>
          <p:nvPr/>
        </p:nvSpPr>
        <p:spPr>
          <a:xfrm>
            <a:off x="228600" y="484020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2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363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4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365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366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8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369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1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372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4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375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7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378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0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381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3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384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6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395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396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8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399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1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402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405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408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0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411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412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4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415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7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418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0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421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431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432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4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435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7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438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0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441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3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444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6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 Box 99"/>
          <p:cNvSpPr/>
          <p:nvPr/>
        </p:nvSpPr>
        <p:spPr>
          <a:xfrm>
            <a:off x="228600" y="304920"/>
            <a:ext cx="8381880" cy="1818000"/>
          </a:xfrm>
          <a:prstGeom prst="rect">
            <a:avLst/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ld version: pg. 352 – Ex. 21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r   New version: pg. 195 - Ex. 10.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TextBox 100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9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460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1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462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463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5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466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8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469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1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472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4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475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7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478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0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481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3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1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492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493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5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496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8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499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502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4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505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7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508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509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1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512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4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515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7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518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7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528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529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1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532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4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535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7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538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0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541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3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Text Box 92"/>
          <p:cNvSpPr/>
          <p:nvPr/>
        </p:nvSpPr>
        <p:spPr>
          <a:xfrm>
            <a:off x="563868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Text Box 95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96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Box 98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LESSONS 5 &amp; 6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64b3c"/>
                </a:solidFill>
                <a:latin typeface="Century Gothic"/>
              </a:rPr>
              <a:t>Simultaneous equations word problem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 – Geometric interpretations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228600" y="4495680"/>
            <a:ext cx="8686800" cy="2133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Consider the following system of three equations in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, 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4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5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4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a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3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8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7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13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Give values for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a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nd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b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in the second equation that make this system </a:t>
            </a: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consistent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, but with an </a:t>
            </a: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infinite set of solutions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Rectangle 5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Rectangle 7"/>
          <p:cNvSpPr/>
          <p:nvPr/>
        </p:nvSpPr>
        <p:spPr>
          <a:xfrm>
            <a:off x="152280" y="457200"/>
            <a:ext cx="8839440" cy="1981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NewRomanPSMT"/>
              </a:rPr>
              <a:t>1. </a:t>
            </a:r>
            <a:r>
              <a:rPr b="0" lang="en-GB" sz="1600" spc="-1" strike="noStrike">
                <a:solidFill>
                  <a:srgbClr val="000000"/>
                </a:solidFill>
                <a:latin typeface="TimesNewRomanPSMT"/>
              </a:rPr>
              <a:t>Consider this system of linear equ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 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3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–  2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4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-9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 6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–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 12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Give a </a:t>
            </a: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geometrical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 description of how the planes represented by these three equations relate to each </a:t>
            </a: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other. Give mathematical reasons to justify you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Text Box 11"/>
          <p:cNvSpPr/>
          <p:nvPr/>
        </p:nvSpPr>
        <p:spPr>
          <a:xfrm>
            <a:off x="7391520" y="47242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06 NCEA Q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Rectangle 5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6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7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Achieving in Statistics” pg. 79 – Q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 pizza shop sells pizza of three sizes, small, medium &amp; large. The price is fixed for each size independent of the topping chosen.  A large pizza costs as much as a medium and a small pizz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Mark bought one of each size and paid $29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Sean bought two small and one large pizza and paid $26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NewRomanPSMT"/>
              </a:rPr>
              <a:t>Find the price of each type of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8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6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Achieving in Statistics” pg. 79 – Q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 pizza shop sells pizza of three sizes, small, medium &amp; large. The price is fixed for each size independent of the topping chosen.  A large pizza costs as much as a medium and a small pizz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Mark bought one of each size and paid $29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Sean bought two small and one large pizza and paid $26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NewRomanPSMT"/>
              </a:rPr>
              <a:t>Find the price of each type of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7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nderline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ariables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quations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onclusion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Oval 9"/>
          <p:cNvSpPr/>
          <p:nvPr/>
        </p:nvSpPr>
        <p:spPr>
          <a:xfrm>
            <a:off x="1371600" y="609480"/>
            <a:ext cx="3049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6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Achieving in Statistics” pg. 79 – Q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 pizza shop sells pizza of three sizes, small, medium &amp; large. The price is fixed for each size independent of the topping chosen.  A large pizza costs as much as a medium and a small pizz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Mark bought one of each size and paid $29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Sean bought two small and one large pizza and paid $26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NewRomanPSMT"/>
              </a:rPr>
              <a:t>Find the price of each type of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Rectangle 7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10"/>
          <p:cNvSpPr/>
          <p:nvPr/>
        </p:nvSpPr>
        <p:spPr>
          <a:xfrm>
            <a:off x="685800" y="2362320"/>
            <a:ext cx="7848720" cy="3542040"/>
          </a:xfrm>
          <a:prstGeom prst="rect">
            <a:avLst/>
          </a:prstGeom>
          <a:solidFill>
            <a:srgbClr val="ffffd9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1.) Do pg. 79 of “Achieving in Statistic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NuLake: Do 4.4 “Applications of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im. Eq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pgs 18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193 – Q2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Rectangle 6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TimesNewRomanPSMT"/>
              </a:rPr>
              <a:t>2007 NCEA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ickets for the high school production were sold for $5, $8 and $15, depending on where the ticket holder will be s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he total number of tickets sold was 3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he number of $8 tickets sold was 30 more than twice the number of $15 tickets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he total amount of money received from the ticket sales was $25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Set up and solve a system of equations to find the number of $5, $8 and $15 tickets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Rectangle 7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6"/>
          <p:cNvSpPr/>
          <p:nvPr/>
        </p:nvSpPr>
        <p:spPr>
          <a:xfrm>
            <a:off x="228600" y="2209680"/>
            <a:ext cx="8686800" cy="46483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TimesNewRomanPSMT"/>
              </a:rPr>
              <a:t>2006 NCEA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NewRomanPSMT"/>
              </a:rPr>
              <a:t>Marni’s friend Jane makes and sells three different types of icecream. Over the last three days, she has kept a tally of how many containers of each type she has made. This is summarised in the table below. On the first day, she spent a total of 145 minutes making icecream, the second day, 130 minutes, and on the third day two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NewRomanPSMT"/>
              </a:rPr>
              <a:t>Set up and solve a system of linear equations to find the type of icecream for which the time taken to produce each container is the small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7"/>
          <p:cNvSpPr/>
          <p:nvPr/>
        </p:nvSpPr>
        <p:spPr>
          <a:xfrm>
            <a:off x="228600" y="45720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5" name="Picture 9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7364160" cy="1722240"/>
          </a:xfrm>
          <a:prstGeom prst="rect">
            <a:avLst/>
          </a:prstGeom>
          <a:ln w="0">
            <a:noFill/>
          </a:ln>
        </p:spPr>
      </p:pic>
      <p:sp>
        <p:nvSpPr>
          <p:cNvPr id="2596" name="Text Box 10"/>
          <p:cNvSpPr/>
          <p:nvPr/>
        </p:nvSpPr>
        <p:spPr>
          <a:xfrm>
            <a:off x="685800" y="2362320"/>
            <a:ext cx="7848720" cy="3968640"/>
          </a:xfrm>
          <a:prstGeom prst="rect">
            <a:avLst/>
          </a:prstGeom>
          <a:solidFill>
            <a:srgbClr val="ffffd9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1.) Do pg. 78 &amp; 79 of “Achieving in Statistic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NuLake: Do 4.4 “Applications of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im. Eq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pgs 18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193 – Q2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1177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Graphing Simultaneous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The “solutions” to a pair of simultaneous equations are the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and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co-ordinates where the two lines they represent inters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But they don’t always intersect at a point.  There are 3 possibilities (think U.N.I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ique s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The usual – where there is a unique solution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.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is means that the 2 lines represented by the equations intersect at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ique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and its coordinates are given by the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 solu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ere is no solution – lines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tersect because they a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The 2 equations are said 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” with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3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finite number of solu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en both equations are actually for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423720" y="826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the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488880" y="4597560"/>
            <a:ext cx="4695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6"/>
          <p:cNvGrpSpPr/>
          <p:nvPr/>
        </p:nvGrpSpPr>
        <p:grpSpPr>
          <a:xfrm>
            <a:off x="6299280" y="2766960"/>
            <a:ext cx="1706400" cy="2183040"/>
            <a:chOff x="6299280" y="2766960"/>
            <a:chExt cx="1706400" cy="2183040"/>
          </a:xfrm>
        </p:grpSpPr>
        <p:sp>
          <p:nvSpPr>
            <p:cNvPr id="711" name="Rectangle 7"/>
            <p:cNvSpPr/>
            <p:nvPr/>
          </p:nvSpPr>
          <p:spPr>
            <a:xfrm>
              <a:off x="6408720" y="2911320"/>
              <a:ext cx="28440" cy="189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"/>
            <p:cNvSpPr/>
            <p:nvPr/>
          </p:nvSpPr>
          <p:spPr>
            <a:xfrm>
              <a:off x="6348240" y="2766960"/>
              <a:ext cx="149400" cy="1476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"/>
            <p:cNvSpPr/>
            <p:nvPr/>
          </p:nvSpPr>
          <p:spPr>
            <a:xfrm>
              <a:off x="6408720" y="3614760"/>
              <a:ext cx="28440" cy="50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"/>
            <p:cNvSpPr/>
            <p:nvPr/>
          </p:nvSpPr>
          <p:spPr>
            <a:xfrm>
              <a:off x="6299280" y="4581360"/>
              <a:ext cx="1562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1"/>
            <p:cNvSpPr/>
            <p:nvPr/>
          </p:nvSpPr>
          <p:spPr>
            <a:xfrm>
              <a:off x="7858080" y="4521240"/>
              <a:ext cx="147600" cy="150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198" h="201">
                  <a:moveTo>
                    <a:pt x="0" y="201"/>
                  </a:moveTo>
                  <a:lnTo>
                    <a:pt x="198" y="100"/>
                  </a:lnTo>
                  <a:lnTo>
                    <a:pt x="0" y="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>
              <a:off x="6657840" y="4740120"/>
              <a:ext cx="13338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Rectangle 13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3905280" y="88092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is the same a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5"/>
          <p:cNvGrpSpPr/>
          <p:nvPr/>
        </p:nvGrpSpPr>
        <p:grpSpPr>
          <a:xfrm>
            <a:off x="1440000" y="880920"/>
            <a:ext cx="1259640" cy="1129680"/>
            <a:chOff x="1440000" y="880920"/>
            <a:chExt cx="1259640" cy="1129680"/>
          </a:xfrm>
        </p:grpSpPr>
        <p:sp>
          <p:nvSpPr>
            <p:cNvPr id="720" name="Rectangle 16"/>
            <p:cNvSpPr/>
            <p:nvPr/>
          </p:nvSpPr>
          <p:spPr>
            <a:xfrm>
              <a:off x="1465560" y="880920"/>
              <a:ext cx="12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7"/>
            <p:cNvSpPr/>
            <p:nvPr/>
          </p:nvSpPr>
          <p:spPr>
            <a:xfrm>
              <a:off x="1440000" y="155088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Rectangle 18"/>
          <p:cNvSpPr/>
          <p:nvPr/>
        </p:nvSpPr>
        <p:spPr>
          <a:xfrm>
            <a:off x="3912120" y="21049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9"/>
          <p:cNvSpPr/>
          <p:nvPr/>
        </p:nvSpPr>
        <p:spPr>
          <a:xfrm>
            <a:off x="1753560" y="2220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0"/>
          <p:cNvSpPr/>
          <p:nvPr/>
        </p:nvSpPr>
        <p:spPr>
          <a:xfrm>
            <a:off x="1557720" y="2890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1"/>
          <p:cNvSpPr/>
          <p:nvPr/>
        </p:nvSpPr>
        <p:spPr>
          <a:xfrm>
            <a:off x="1914480" y="356076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2"/>
          <p:cNvSpPr/>
          <p:nvPr/>
        </p:nvSpPr>
        <p:spPr>
          <a:xfrm>
            <a:off x="412560" y="35607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3"/>
          <p:cNvSpPr/>
          <p:nvPr/>
        </p:nvSpPr>
        <p:spPr>
          <a:xfrm>
            <a:off x="394200" y="460836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have a uniqu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4"/>
          <p:cNvSpPr/>
          <p:nvPr/>
        </p:nvSpPr>
        <p:spPr>
          <a:xfrm>
            <a:off x="401040" y="54864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25"/>
          <p:cNvGrpSpPr/>
          <p:nvPr/>
        </p:nvGrpSpPr>
        <p:grpSpPr>
          <a:xfrm>
            <a:off x="6226200" y="2943360"/>
            <a:ext cx="2153520" cy="1879560"/>
            <a:chOff x="6226200" y="2943360"/>
            <a:chExt cx="2153520" cy="1879560"/>
          </a:xfrm>
        </p:grpSpPr>
        <p:sp>
          <p:nvSpPr>
            <p:cNvPr id="730" name="Rectangle 26"/>
            <p:cNvSpPr/>
            <p:nvPr/>
          </p:nvSpPr>
          <p:spPr>
            <a:xfrm>
              <a:off x="7602840" y="294336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7"/>
            <p:cNvSpPr/>
            <p:nvPr/>
          </p:nvSpPr>
          <p:spPr>
            <a:xfrm flipV="1">
              <a:off x="6226200" y="3181320"/>
              <a:ext cx="1339920" cy="164160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8"/>
          <p:cNvGrpSpPr/>
          <p:nvPr/>
        </p:nvGrpSpPr>
        <p:grpSpPr>
          <a:xfrm>
            <a:off x="6124680" y="3081240"/>
            <a:ext cx="2644560" cy="1422000"/>
            <a:chOff x="6124680" y="3081240"/>
            <a:chExt cx="2644560" cy="1422000"/>
          </a:xfrm>
        </p:grpSpPr>
        <p:sp>
          <p:nvSpPr>
            <p:cNvPr id="733" name="Rectangle 29"/>
            <p:cNvSpPr/>
            <p:nvPr/>
          </p:nvSpPr>
          <p:spPr>
            <a:xfrm>
              <a:off x="7515360" y="404352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0"/>
            <p:cNvSpPr/>
            <p:nvPr/>
          </p:nvSpPr>
          <p:spPr>
            <a:xfrm>
              <a:off x="6124680" y="3081240"/>
              <a:ext cx="1641240" cy="105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31"/>
          <p:cNvGrpSpPr/>
          <p:nvPr/>
        </p:nvGrpSpPr>
        <p:grpSpPr>
          <a:xfrm>
            <a:off x="5679720" y="3769920"/>
            <a:ext cx="2631960" cy="1892520"/>
            <a:chOff x="5679720" y="3769920"/>
            <a:chExt cx="2631960" cy="1892520"/>
          </a:xfrm>
        </p:grpSpPr>
        <p:sp>
          <p:nvSpPr>
            <p:cNvPr id="736" name="Rectangle 32"/>
            <p:cNvSpPr/>
            <p:nvPr/>
          </p:nvSpPr>
          <p:spPr>
            <a:xfrm>
              <a:off x="5679720" y="516096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Unique inters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3"/>
            <p:cNvSpPr/>
            <p:nvPr/>
          </p:nvSpPr>
          <p:spPr>
            <a:xfrm>
              <a:off x="5697000" y="5173560"/>
              <a:ext cx="2614680" cy="48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4"/>
            <p:cNvSpPr/>
            <p:nvPr/>
          </p:nvSpPr>
          <p:spPr>
            <a:xfrm flipV="1">
              <a:off x="7137000" y="3769920"/>
              <a:ext cx="0" cy="139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B</dc:creator>
  <dc:description/>
  <dc:language>en-US</dc:language>
  <cp:lastModifiedBy>Jeremy Brocklehurst</cp:lastModifiedBy>
  <dcterms:modified xsi:type="dcterms:W3CDTF">2011-01-22T01:15:06Z</dcterms:modified>
  <cp:revision>1796</cp:revision>
  <dc:subject>Year 13 Statistics &amp; Modelling</dc:subject>
  <dc:title>Simultaneous Equations 2010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